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88B3-AF50-4D56-B50B-BC42E684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12A-A123-4B4A-B965-3E0267CA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755D-4BEA-4BDF-9EC8-EA160E58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5A0A-9FBE-43A2-A991-E23267C3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709-5514-4FCE-8BC8-88E83F7D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7B7-103A-4DED-9A3F-F0A314A3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C86-AEB6-4A73-8896-49E676CF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3D3-5366-49B6-9015-10A1E5FE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0DD4-BDE6-4E67-A279-DCD1B559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3372-AEC7-488C-B981-E572FEBE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BD2E-67BF-48D1-B216-26AD8562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0B57-EEF4-4308-869A-134676D9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364E-E507-44AB-ABF4-59E8FC1C5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Тайна Славянской</a:t>
            </a:r>
            <a:br>
              <a:rPr sz="5400"/>
            </a:b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АзБ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324000" y="476280"/>
            <a:ext cx="849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{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НЕ. ВСЯКИЙ. КТО. ЧИТАТЬ. В. ЧТЕНИЕ. СИЛА. ЗНАТЬ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5280" y="234792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УЧЕНЫЙ. ВОДИТЬ. НЕУЧЕНЫЙ. СЛЕД. ХОДИТЬ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5280" y="393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4200" y="400356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04292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33020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61928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06560" y="400536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195640" y="4005360"/>
            <a:ext cx="21564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82920" y="400536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844720" y="3932280"/>
            <a:ext cx="9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781440" y="393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140360" y="400356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42908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71636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00544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292720" y="400536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726160" y="393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8472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37380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6108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020000" y="393228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451640" y="393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81056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09928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386920" y="400356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67564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20000" y="393228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4000" y="1195560"/>
            <a:ext cx="7488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НЕ ВСЯКИЙ, КТО ЧИТАЕТ, В ЧТЕНИИ СИЛУ ЗН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95280" y="285264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УЧЕНЫЙ ВОДИТ, НЕУЧЕНЫЙ СЛЕДОМ ХОД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95280" y="4437000"/>
            <a:ext cx="597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УДРОСТЬ ЕСТЬ ЦАРИЦА НЕБА И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D53-5236-4496-A853-8EBF360657D5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6659640" y="4149720"/>
            <a:ext cx="1506600" cy="180036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1187280" y="4005360"/>
            <a:ext cx="1506600" cy="180000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682560" y="3789360"/>
            <a:ext cx="2449440" cy="238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5761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айна Славя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20720" y="3500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68360" y="407664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280" y="5229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20720" y="580536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00360" y="5229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98920" y="414972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771640" y="53006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844720" y="42228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763640" y="3573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2720" y="4149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8360" y="53020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763640" y="58784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226200" y="3789360"/>
            <a:ext cx="2449440" cy="238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64360" y="3500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083280" y="4005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938920" y="494028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515280" y="5732640"/>
            <a:ext cx="64908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44000" y="494028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9280" y="4076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315280" y="50115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245440" y="4149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307280" y="3573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27640" y="407844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012000" y="5013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588000" y="5877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740720" y="5732640"/>
            <a:ext cx="64908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883640" y="5805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3492360" y="3357720"/>
            <a:ext cx="2338560" cy="3213000"/>
          </a:xfrm>
          <a:prstGeom prst="rect">
            <a:avLst/>
          </a:prstGeom>
          <a:ln w="0">
            <a:noFill/>
          </a:ln>
        </p:spPr>
      </p:pic>
      <p:grpSp>
        <p:nvGrpSpPr>
          <p:cNvPr id="587" name=""/>
          <p:cNvGrpSpPr/>
          <p:nvPr/>
        </p:nvGrpSpPr>
        <p:grpSpPr>
          <a:xfrm>
            <a:off x="179280" y="1197000"/>
            <a:ext cx="4392720" cy="647640"/>
            <a:chOff x="179280" y="1197000"/>
            <a:chExt cx="4392720" cy="647640"/>
          </a:xfrm>
        </p:grpSpPr>
        <p:sp>
          <p:nvSpPr>
            <p:cNvPr id="588" name=""/>
            <p:cNvSpPr/>
            <p:nvPr/>
          </p:nvSpPr>
          <p:spPr>
            <a:xfrm>
              <a:off x="17928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91188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4304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37564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0824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3940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4572000" y="1197000"/>
            <a:ext cx="4392720" cy="647640"/>
            <a:chOff x="4572000" y="1197000"/>
            <a:chExt cx="4392720" cy="647640"/>
          </a:xfrm>
        </p:grpSpPr>
        <p:sp>
          <p:nvSpPr>
            <p:cNvPr id="595" name=""/>
            <p:cNvSpPr/>
            <p:nvPr/>
          </p:nvSpPr>
          <p:spPr>
            <a:xfrm>
              <a:off x="457200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30460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3576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6836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50096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23212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79280" y="1844640"/>
            <a:ext cx="4392720" cy="647640"/>
            <a:chOff x="179280" y="1844640"/>
            <a:chExt cx="4392720" cy="647640"/>
          </a:xfrm>
        </p:grpSpPr>
        <p:sp>
          <p:nvSpPr>
            <p:cNvPr id="602" name=""/>
            <p:cNvSpPr/>
            <p:nvPr/>
          </p:nvSpPr>
          <p:spPr>
            <a:xfrm>
              <a:off x="17928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1188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4304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7564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0824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3940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4572000" y="1844640"/>
            <a:ext cx="4392720" cy="647640"/>
            <a:chOff x="4572000" y="1844640"/>
            <a:chExt cx="4392720" cy="647640"/>
          </a:xfrm>
        </p:grpSpPr>
        <p:sp>
          <p:nvSpPr>
            <p:cNvPr id="609" name=""/>
            <p:cNvSpPr/>
            <p:nvPr/>
          </p:nvSpPr>
          <p:spPr>
            <a:xfrm>
              <a:off x="457200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0460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3576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76836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0096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23212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179280" y="2494080"/>
            <a:ext cx="4392720" cy="647640"/>
            <a:chOff x="179280" y="2494080"/>
            <a:chExt cx="4392720" cy="647640"/>
          </a:xfrm>
        </p:grpSpPr>
        <p:sp>
          <p:nvSpPr>
            <p:cNvPr id="616" name=""/>
            <p:cNvSpPr/>
            <p:nvPr/>
          </p:nvSpPr>
          <p:spPr>
            <a:xfrm>
              <a:off x="17928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1188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64304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37564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10824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3940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4572000" y="2494080"/>
            <a:ext cx="4392720" cy="647640"/>
            <a:chOff x="4572000" y="2494080"/>
            <a:chExt cx="4392720" cy="647640"/>
          </a:xfrm>
        </p:grpSpPr>
        <p:sp>
          <p:nvSpPr>
            <p:cNvPr id="623" name=""/>
            <p:cNvSpPr/>
            <p:nvPr/>
          </p:nvSpPr>
          <p:spPr>
            <a:xfrm>
              <a:off x="457200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30460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3576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76836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0096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23212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2400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971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76364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48436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203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99564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71636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35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15636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87708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667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38836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400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97164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Бу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69236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340000" y="1844640"/>
            <a:ext cx="8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ла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059280" y="184464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об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780000" y="1844640"/>
            <a:ext cx="86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м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Жи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29272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ем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8472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73272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45164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ю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17236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Мыс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9220-7E54-4BBB-B99F-BEF94E469AF3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6659640" y="4149720"/>
            <a:ext cx="1506600" cy="180036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1187280" y="4005360"/>
            <a:ext cx="1506600" cy="18000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682560" y="3789360"/>
            <a:ext cx="2449440" cy="238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5761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айна Славя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620720" y="3500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68360" y="407664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95280" y="5229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620720" y="580536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700360" y="5229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698920" y="414972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771640" y="53006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844720" y="42228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763640" y="3573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12720" y="4149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68360" y="53020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763640" y="58784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226200" y="3789360"/>
            <a:ext cx="2449440" cy="238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164360" y="3500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083280" y="4005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938920" y="494028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515280" y="5732640"/>
            <a:ext cx="64908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244000" y="494028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8099280" y="4076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8315280" y="50115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245440" y="4149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307280" y="3573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227640" y="407844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012000" y="5013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588000" y="5877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740720" y="5732640"/>
            <a:ext cx="64908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883640" y="5805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3"/>
          <a:stretch/>
        </p:blipFill>
        <p:spPr>
          <a:xfrm>
            <a:off x="3492360" y="3357720"/>
            <a:ext cx="2338560" cy="3213000"/>
          </a:xfrm>
          <a:prstGeom prst="rect">
            <a:avLst/>
          </a:prstGeom>
          <a:ln w="0">
            <a:noFill/>
          </a:ln>
        </p:spPr>
      </p:pic>
      <p:grpSp>
        <p:nvGrpSpPr>
          <p:cNvPr id="685" name=""/>
          <p:cNvGrpSpPr/>
          <p:nvPr/>
        </p:nvGrpSpPr>
        <p:grpSpPr>
          <a:xfrm>
            <a:off x="179280" y="1197000"/>
            <a:ext cx="4392720" cy="647640"/>
            <a:chOff x="179280" y="1197000"/>
            <a:chExt cx="4392720" cy="647640"/>
          </a:xfrm>
        </p:grpSpPr>
        <p:sp>
          <p:nvSpPr>
            <p:cNvPr id="686" name=""/>
            <p:cNvSpPr/>
            <p:nvPr/>
          </p:nvSpPr>
          <p:spPr>
            <a:xfrm>
              <a:off x="17928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91188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4304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564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10824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83940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4572000" y="1197000"/>
            <a:ext cx="4392720" cy="647640"/>
            <a:chOff x="4572000" y="1197000"/>
            <a:chExt cx="4392720" cy="647640"/>
          </a:xfrm>
        </p:grpSpPr>
        <p:sp>
          <p:nvSpPr>
            <p:cNvPr id="693" name=""/>
            <p:cNvSpPr/>
            <p:nvPr/>
          </p:nvSpPr>
          <p:spPr>
            <a:xfrm>
              <a:off x="457200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0460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3576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6836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50096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23212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79280" y="1844640"/>
            <a:ext cx="4392720" cy="647640"/>
            <a:chOff x="179280" y="1844640"/>
            <a:chExt cx="4392720" cy="647640"/>
          </a:xfrm>
        </p:grpSpPr>
        <p:sp>
          <p:nvSpPr>
            <p:cNvPr id="700" name=""/>
            <p:cNvSpPr/>
            <p:nvPr/>
          </p:nvSpPr>
          <p:spPr>
            <a:xfrm>
              <a:off x="17928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91188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4304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7564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0824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3940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4572000" y="1844640"/>
            <a:ext cx="4392720" cy="647640"/>
            <a:chOff x="4572000" y="1844640"/>
            <a:chExt cx="4392720" cy="647640"/>
          </a:xfrm>
        </p:grpSpPr>
        <p:sp>
          <p:nvSpPr>
            <p:cNvPr id="707" name=""/>
            <p:cNvSpPr/>
            <p:nvPr/>
          </p:nvSpPr>
          <p:spPr>
            <a:xfrm>
              <a:off x="457200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30460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03576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6836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50096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23212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179280" y="2494080"/>
            <a:ext cx="4392720" cy="647640"/>
            <a:chOff x="179280" y="2494080"/>
            <a:chExt cx="4392720" cy="647640"/>
          </a:xfrm>
        </p:grpSpPr>
        <p:sp>
          <p:nvSpPr>
            <p:cNvPr id="714" name=""/>
            <p:cNvSpPr/>
            <p:nvPr/>
          </p:nvSpPr>
          <p:spPr>
            <a:xfrm>
              <a:off x="17928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1188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4304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37564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10824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3940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4572000" y="2494080"/>
            <a:ext cx="4392720" cy="647640"/>
            <a:chOff x="4572000" y="2494080"/>
            <a:chExt cx="4392720" cy="647640"/>
          </a:xfrm>
        </p:grpSpPr>
        <p:sp>
          <p:nvSpPr>
            <p:cNvPr id="721" name=""/>
            <p:cNvSpPr/>
            <p:nvPr/>
          </p:nvSpPr>
          <p:spPr>
            <a:xfrm>
              <a:off x="457200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0460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03576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76836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0096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23212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32400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971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76364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48436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203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564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71636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435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15636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87708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667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38836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2400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97164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Бу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69236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340000" y="1844640"/>
            <a:ext cx="8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ла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059280" y="184464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об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780000" y="1844640"/>
            <a:ext cx="86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м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57200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Жи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29272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ем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08472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73272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45164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ю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17236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Мыс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249228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900000" y="249228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ни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619280" y="249228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е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340000" y="249228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203640" y="2781360"/>
            <a:ext cx="504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851280" y="249228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227640" y="249228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948360" y="249228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643280" y="2781360"/>
            <a:ext cx="505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435640" y="2781360"/>
            <a:ext cx="504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596360" y="2781360"/>
            <a:ext cx="504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8315280" y="2781360"/>
            <a:ext cx="504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A69-D5B3-4644-95FF-DDE0E4B71E43}" type="slidenum">
              <a:t>12</a:t>
            </a:fld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395280" y="126828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Я. Книга. Ведать. Слово. Добро. Есть. Жизнь. Земля. И. Как. Люди. Мысле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9640" y="3357720"/>
            <a:ext cx="8280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Я, Книга, ведающая Словом добра, есть жизнь Земли и, как люди, мысл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3926-B795-4DA1-9C34-E743B5767CC6}" type="slidenum">
              <a:t>13</a:t>
            </a:fld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6659640" y="4149720"/>
            <a:ext cx="1506600" cy="180036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2"/>
          <a:stretch/>
        </p:blipFill>
        <p:spPr>
          <a:xfrm>
            <a:off x="1187280" y="4005360"/>
            <a:ext cx="1506600" cy="18000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682560" y="3789360"/>
            <a:ext cx="2449440" cy="238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5761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айна Славя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620720" y="3500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68360" y="407664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5280" y="5229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620720" y="580536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700360" y="5229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698920" y="414972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771640" y="53006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44720" y="42228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763640" y="3573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12720" y="4149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68360" y="53020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763640" y="58784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226200" y="3789360"/>
            <a:ext cx="2449440" cy="238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64360" y="3500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083280" y="4005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938920" y="494028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515280" y="5732640"/>
            <a:ext cx="64908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8244000" y="494028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8099280" y="4076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8315280" y="50115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245440" y="4149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307280" y="3573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227640" y="407844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012000" y="5013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588000" y="5877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740720" y="5732640"/>
            <a:ext cx="64908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883640" y="5805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3"/>
          <a:stretch/>
        </p:blipFill>
        <p:spPr>
          <a:xfrm>
            <a:off x="3492360" y="3357720"/>
            <a:ext cx="2338560" cy="3213000"/>
          </a:xfrm>
          <a:prstGeom prst="rect">
            <a:avLst/>
          </a:prstGeom>
          <a:ln w="0">
            <a:noFill/>
          </a:ln>
        </p:spPr>
      </p:pic>
      <p:grpSp>
        <p:nvGrpSpPr>
          <p:cNvPr id="797" name=""/>
          <p:cNvGrpSpPr/>
          <p:nvPr/>
        </p:nvGrpSpPr>
        <p:grpSpPr>
          <a:xfrm>
            <a:off x="179280" y="1197000"/>
            <a:ext cx="4392720" cy="647640"/>
            <a:chOff x="179280" y="1197000"/>
            <a:chExt cx="4392720" cy="647640"/>
          </a:xfrm>
        </p:grpSpPr>
        <p:sp>
          <p:nvSpPr>
            <p:cNvPr id="798" name=""/>
            <p:cNvSpPr/>
            <p:nvPr/>
          </p:nvSpPr>
          <p:spPr>
            <a:xfrm>
              <a:off x="17928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91188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4304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7564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10824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3940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4572000" y="1197000"/>
            <a:ext cx="4392720" cy="647640"/>
            <a:chOff x="4572000" y="1197000"/>
            <a:chExt cx="4392720" cy="647640"/>
          </a:xfrm>
        </p:grpSpPr>
        <p:sp>
          <p:nvSpPr>
            <p:cNvPr id="805" name=""/>
            <p:cNvSpPr/>
            <p:nvPr/>
          </p:nvSpPr>
          <p:spPr>
            <a:xfrm>
              <a:off x="457200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0460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03576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76836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50096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23212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179280" y="1844640"/>
            <a:ext cx="4392720" cy="647640"/>
            <a:chOff x="179280" y="1844640"/>
            <a:chExt cx="4392720" cy="647640"/>
          </a:xfrm>
        </p:grpSpPr>
        <p:sp>
          <p:nvSpPr>
            <p:cNvPr id="812" name=""/>
            <p:cNvSpPr/>
            <p:nvPr/>
          </p:nvSpPr>
          <p:spPr>
            <a:xfrm>
              <a:off x="17928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91188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64304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37564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0824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83940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572000" y="1844640"/>
            <a:ext cx="4392720" cy="647640"/>
            <a:chOff x="4572000" y="1844640"/>
            <a:chExt cx="4392720" cy="647640"/>
          </a:xfrm>
        </p:grpSpPr>
        <p:sp>
          <p:nvSpPr>
            <p:cNvPr id="819" name=""/>
            <p:cNvSpPr/>
            <p:nvPr/>
          </p:nvSpPr>
          <p:spPr>
            <a:xfrm>
              <a:off x="457200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30460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03576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76836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50096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23212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32400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971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76364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48436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203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99564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71636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435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15636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87708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667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838836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2400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97164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Бу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69236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340000" y="1844640"/>
            <a:ext cx="8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ла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059280" y="184464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об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780000" y="1844640"/>
            <a:ext cx="86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м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57200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Жи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29272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ем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08472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73272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45164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ю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17236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Мыс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54880" y="2701800"/>
            <a:ext cx="87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, Книга, ведающая Словом добра, есть жизнь Земли и, как люди, мыс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E09B-D52C-4071-9092-0085950C86AA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55640" y="4149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3203640" y="706320"/>
            <a:ext cx="2759040" cy="3299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51280" y="1341360"/>
            <a:ext cx="29527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05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РОК: Тайна Славя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141300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5080" y="1413000"/>
            <a:ext cx="194292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16280"/>
            <a:ext cx="1079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Е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36360" y="2708280"/>
            <a:ext cx="1765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ател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03280" y="2062080"/>
            <a:ext cx="194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2709720"/>
            <a:ext cx="194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105264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33992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63700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335772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8920" y="3860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386064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54560" y="342900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263700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0720" y="1844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2920" y="1268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1916280"/>
            <a:ext cx="57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1341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5280" y="1125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2920" y="141300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1989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2708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3429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88000" y="2708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99280" y="3500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8720" y="393372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933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1916280"/>
            <a:ext cx="1944720" cy="18000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93080" y="1341360"/>
            <a:ext cx="208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В НАЧАЛ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ЛО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ОВО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49440" y="350208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КТО ИЩЕ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386064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8728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6364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2720" y="3932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393372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9080" y="393372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16360" y="393372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5080" y="393372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21080" y="386064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-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93800" y="422100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АХОДИ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4720" y="458136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0328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465300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6836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465444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4720" y="465444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32000" y="465444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8160" y="458136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08464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. ВСЯКИЙ. КТО. ЧИТАТЬ. В. ЧТЕНИЕ. СИЛА. ЗНАТ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44500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ЧЕНЫЙ. ВОДИТЬ. НЕУЧЕНЫЙ. СЛЕД. ХОДИТЬ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420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020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656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950080"/>
            <a:ext cx="21564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292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44720" y="5877000"/>
            <a:ext cx="9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8144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290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544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616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472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380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10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20000" y="587700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5164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1056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992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692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67564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820000" y="587700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804F-AF30-4418-B4D3-CBF11BD4B130}" type="slidenum">
              <a:t>2</a:t>
            </a:fld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7" dur="1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8" dur="1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659640" y="4149720"/>
            <a:ext cx="1506600" cy="1800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187280" y="4005360"/>
            <a:ext cx="1506600" cy="1800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2560" y="3789360"/>
            <a:ext cx="2449440" cy="238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5761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айна Славя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20720" y="3500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407664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5229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20720" y="580536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5229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98920" y="414972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53006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4720" y="42228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3573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2720" y="4149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53020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58784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26200" y="3789360"/>
            <a:ext cx="2449440" cy="238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64360" y="3500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3280" y="4005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38920" y="494028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15280" y="5732640"/>
            <a:ext cx="64908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44000" y="494028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99280" y="4076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15280" y="50115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45440" y="4149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7280" y="3573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407844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12000" y="5013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5877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40720" y="5732640"/>
            <a:ext cx="64908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83640" y="5805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492360" y="3357720"/>
            <a:ext cx="2338560" cy="321300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179280" y="1197000"/>
            <a:ext cx="4392720" cy="647640"/>
            <a:chOff x="179280" y="1197000"/>
            <a:chExt cx="4392720" cy="647640"/>
          </a:xfrm>
        </p:grpSpPr>
        <p:sp>
          <p:nvSpPr>
            <p:cNvPr id="156" name=""/>
            <p:cNvSpPr/>
            <p:nvPr/>
          </p:nvSpPr>
          <p:spPr>
            <a:xfrm>
              <a:off x="17928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188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4304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7564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0824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3940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572000" y="1197000"/>
            <a:ext cx="4392720" cy="647640"/>
            <a:chOff x="4572000" y="1197000"/>
            <a:chExt cx="4392720" cy="647640"/>
          </a:xfrm>
        </p:grpSpPr>
        <p:sp>
          <p:nvSpPr>
            <p:cNvPr id="163" name=""/>
            <p:cNvSpPr/>
            <p:nvPr/>
          </p:nvSpPr>
          <p:spPr>
            <a:xfrm>
              <a:off x="457200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0460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3576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6836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0096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3212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79280" y="1844640"/>
            <a:ext cx="4392720" cy="647640"/>
            <a:chOff x="179280" y="1844640"/>
            <a:chExt cx="4392720" cy="647640"/>
          </a:xfrm>
        </p:grpSpPr>
        <p:sp>
          <p:nvSpPr>
            <p:cNvPr id="170" name=""/>
            <p:cNvSpPr/>
            <p:nvPr/>
          </p:nvSpPr>
          <p:spPr>
            <a:xfrm>
              <a:off x="17928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1188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4304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7564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0824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3940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572000" y="1844640"/>
            <a:ext cx="4392720" cy="647640"/>
            <a:chOff x="4572000" y="1844640"/>
            <a:chExt cx="4392720" cy="647640"/>
          </a:xfrm>
        </p:grpSpPr>
        <p:sp>
          <p:nvSpPr>
            <p:cNvPr id="177" name=""/>
            <p:cNvSpPr/>
            <p:nvPr/>
          </p:nvSpPr>
          <p:spPr>
            <a:xfrm>
              <a:off x="457200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0460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3576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6836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0096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23212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79280" y="2494080"/>
            <a:ext cx="4392720" cy="647640"/>
            <a:chOff x="179280" y="2494080"/>
            <a:chExt cx="4392720" cy="647640"/>
          </a:xfrm>
        </p:grpSpPr>
        <p:sp>
          <p:nvSpPr>
            <p:cNvPr id="184" name=""/>
            <p:cNvSpPr/>
            <p:nvPr/>
          </p:nvSpPr>
          <p:spPr>
            <a:xfrm>
              <a:off x="17928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1188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4304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7564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0824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3940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572000" y="2494080"/>
            <a:ext cx="4392720" cy="647640"/>
            <a:chOff x="4572000" y="2494080"/>
            <a:chExt cx="4392720" cy="647640"/>
          </a:xfrm>
        </p:grpSpPr>
        <p:sp>
          <p:nvSpPr>
            <p:cNvPr id="191" name=""/>
            <p:cNvSpPr/>
            <p:nvPr/>
          </p:nvSpPr>
          <p:spPr>
            <a:xfrm>
              <a:off x="457200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0460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3576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6836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0096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3212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2400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71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9564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1636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35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5636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7708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67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8836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7164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Бу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40000" y="1844640"/>
            <a:ext cx="8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ла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59280" y="184464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об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80000" y="1844640"/>
            <a:ext cx="86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м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Жи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ем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272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5164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ю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17236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Мыс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740720" y="476280"/>
            <a:ext cx="7142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863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4FD0-D55F-4A83-960F-AB543B74432C}" type="slidenum">
              <a:t>3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51280" y="1341360"/>
            <a:ext cx="29527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05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РОК: Тайна Славя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141300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5080" y="1413000"/>
            <a:ext cx="194292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1916280"/>
            <a:ext cx="1079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Е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-36360" y="2708280"/>
            <a:ext cx="1765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ател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03280" y="2062080"/>
            <a:ext cx="194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03280" y="2709720"/>
            <a:ext cx="194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32360" y="105264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0360" y="133992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35280" y="191628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263700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51280" y="335772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8920" y="3860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35640" y="386064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54560" y="342900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43640" y="263700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300720" y="1844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22920" y="1268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72360" y="1916280"/>
            <a:ext cx="57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1341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5280" y="1125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2920" y="141300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08360" y="1989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35280" y="2708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24360" y="3429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88000" y="2708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99280" y="3500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08720" y="393372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3933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1916280"/>
            <a:ext cx="1944720" cy="18000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93080" y="1341360"/>
            <a:ext cx="208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В НАЧАЛ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ЛО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ОВО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49440" y="350208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КТО ИЩЕ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00000" y="386064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7636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6364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52720" y="3932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40000" y="393372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629080" y="393372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393372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5080" y="393372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21080" y="386064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-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93800" y="422100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АХОДИ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44720" y="458136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0328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92360" y="465300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7964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6836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56000" y="465444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44720" y="465444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465444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8160" y="458136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508464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. ВСЯКИЙ. КТО. ЧИТАТЬ. В. ЧТЕНИЕ. СИЛА. ЗНАТ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544500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ЧЕНЫЙ. ВОДИТЬ. НЕУЧЕНЫЙ. СЛЕД. ХОДИТЬ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420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4292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3020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192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0656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95640" y="5950080"/>
            <a:ext cx="21564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292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44720" y="5877000"/>
            <a:ext cx="9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8144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4036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290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1636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0544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29272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2616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8472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7380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6610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20000" y="587700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5164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81056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0992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38692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67564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820000" y="587700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BCB1-AE4B-4DF2-8DD8-D6A493CEA47A}" type="slidenum">
              <a:t>4</a:t>
            </a:fld>
          </a:p>
        </p:txBody>
      </p:sp>
    </p:spTree>
  </p:cSld>
  <p:transition>
    <p:checker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" dur="1500" autoRev="1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15" dur="1500" autoRev="1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16" dur="1500" autoRev="1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1763640" y="476280"/>
            <a:ext cx="6121440" cy="5618160"/>
            <a:chOff x="1763640" y="476280"/>
            <a:chExt cx="6121440" cy="5618160"/>
          </a:xfrm>
        </p:grpSpPr>
        <p:sp>
          <p:nvSpPr>
            <p:cNvPr id="304" name=""/>
            <p:cNvSpPr/>
            <p:nvPr/>
          </p:nvSpPr>
          <p:spPr>
            <a:xfrm>
              <a:off x="2358720" y="955800"/>
              <a:ext cx="4902480" cy="478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54400" y="476280"/>
              <a:ext cx="1077840" cy="957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38240" y="952560"/>
              <a:ext cx="1077840" cy="9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00160" y="1909800"/>
              <a:ext cx="1077840" cy="9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63640" y="3106800"/>
              <a:ext cx="1077840" cy="95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58720" y="4302360"/>
              <a:ext cx="1077840" cy="9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33680" y="5137200"/>
              <a:ext cx="1077840" cy="9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89240" y="5137200"/>
              <a:ext cx="1077840" cy="9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83000" y="4421520"/>
              <a:ext cx="1078200" cy="9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62520" y="3106800"/>
              <a:ext cx="1077840" cy="95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26000" y="1791000"/>
              <a:ext cx="1077840" cy="9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465520" y="835200"/>
              <a:ext cx="1077840" cy="95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11840" y="2079720"/>
              <a:ext cx="957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33720" y="1090800"/>
              <a:ext cx="957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00360" y="712800"/>
              <a:ext cx="955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82760" y="1217880"/>
              <a:ext cx="957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90680" y="2200320"/>
              <a:ext cx="9554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Ц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28600" y="3359520"/>
              <a:ext cx="957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49240" y="4591080"/>
              <a:ext cx="955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27480" y="3359520"/>
              <a:ext cx="95760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68920" y="4675320"/>
              <a:ext cx="957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78320" y="5429520"/>
              <a:ext cx="957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24200" y="5429520"/>
              <a:ext cx="9554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97160" y="1909800"/>
              <a:ext cx="3228840" cy="2988000"/>
            </a:xfrm>
            <a:prstGeom prst="smileyFace">
              <a:avLst>
                <a:gd name="adj" fmla="val 928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E91A-FE8C-4625-BF91-33F82D4A1025}" type="slidenum">
              <a:t>5</a:t>
            </a:fld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51280" y="1341360"/>
            <a:ext cx="29527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05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РОК: Тайна Славя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4000" y="141300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5080" y="1413000"/>
            <a:ext cx="194292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79280" y="1916280"/>
            <a:ext cx="1079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Е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-36360" y="2708280"/>
            <a:ext cx="1765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ател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03280" y="2062080"/>
            <a:ext cx="194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403280" y="2709720"/>
            <a:ext cx="194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932360" y="105264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40360" y="133992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191628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263700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51280" y="335772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98920" y="3860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35640" y="386064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154560" y="342900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43640" y="263700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00720" y="1844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722920" y="1268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72360" y="1916280"/>
            <a:ext cx="57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67280" y="1341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75280" y="1125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82920" y="141300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08360" y="1989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35280" y="2708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24360" y="3429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88000" y="2708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99280" y="3500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08720" y="393372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933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356000" y="1916280"/>
            <a:ext cx="1944720" cy="18000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093080" y="1341360"/>
            <a:ext cx="208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В НАЧАЛ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ЛО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ОВО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49440" y="350208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КТО ИЩЕ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00000" y="386064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8728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7636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76364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052720" y="3932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40000" y="393372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629080" y="393372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16360" y="393372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05080" y="393372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421080" y="386064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-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93800" y="422100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АХОДИ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44720" y="458136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0328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92360" y="465300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7964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6836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56000" y="465444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44720" y="465444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32000" y="465444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78160" y="458136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24000" y="508464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. ВСЯКИЙ. КТО. ЧИТАТЬ. В. ЧТЕНИЕ. СИЛА. ЗНАТ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000" y="5445000"/>
            <a:ext cx="64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ЧЕНЫЙ. ВОДИТЬ. НЕУЧЕНЫЙ. СЛЕД. ХОДИТЬ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528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420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4292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3020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192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90656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195640" y="5950080"/>
            <a:ext cx="21564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48292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44720" y="5877000"/>
            <a:ext cx="9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78144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14036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4290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71636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0544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29272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72616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37380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6610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020000" y="587700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5164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81056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992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38692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67564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820000" y="587700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356000" y="278136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ердце ум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E6A-24AB-4CE2-8099-18984A762817}" type="slidenum">
              <a:t>6</a:t>
            </a:fld>
          </a:p>
        </p:txBody>
      </p:sp>
    </p:spTree>
  </p:cSld>
  <p:transition>
    <p:checker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2" dur="1500" autoRev="1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23" dur="1500" autoRev="1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24" dur="1500" autoRev="1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843280" y="1125360"/>
            <a:ext cx="2638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Arial"/>
              </a:rPr>
              <a:t>КТО ИЩЕ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90440" y="2205000"/>
            <a:ext cx="7448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Arial"/>
              </a:rPr>
              <a:t>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644480" y="2311560"/>
            <a:ext cx="559080" cy="558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392200" y="2311560"/>
            <a:ext cx="559080" cy="558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137040" y="2311560"/>
            <a:ext cx="558720" cy="558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84760" y="2311560"/>
            <a:ext cx="558720" cy="558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629240" y="2314440"/>
            <a:ext cx="558720" cy="5605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376960" y="2314440"/>
            <a:ext cx="558720" cy="5605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21440" y="2314440"/>
            <a:ext cx="558720" cy="5605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869160" y="2314440"/>
            <a:ext cx="558720" cy="5605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427880" y="2125800"/>
            <a:ext cx="7444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987640" y="3213000"/>
            <a:ext cx="280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Arial"/>
              </a:rPr>
              <a:t>НАХОДИ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547640" y="4079880"/>
            <a:ext cx="7430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03560" y="4178160"/>
            <a:ext cx="558720" cy="5590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951280" y="4178160"/>
            <a:ext cx="558720" cy="5590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95760" y="4178160"/>
            <a:ext cx="558720" cy="5590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443480" y="4178160"/>
            <a:ext cx="558720" cy="5590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187960" y="4181400"/>
            <a:ext cx="558720" cy="558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935680" y="4181400"/>
            <a:ext cx="558720" cy="558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680160" y="4181400"/>
            <a:ext cx="558720" cy="558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356600" y="4008600"/>
            <a:ext cx="744480" cy="9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6EFC-A1F7-4234-B803-C2054D6A7117}" type="slidenum">
              <a:t>7</a:t>
            </a:fld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851280" y="1341360"/>
            <a:ext cx="29527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05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РОК: Тайна Славя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4000" y="141300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405080" y="1413000"/>
            <a:ext cx="194292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79280" y="1916280"/>
            <a:ext cx="1079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Е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-36360" y="2708280"/>
            <a:ext cx="1765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ател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03280" y="2062080"/>
            <a:ext cx="194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403280" y="2709720"/>
            <a:ext cx="194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933800" y="105264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40360" y="133992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35280" y="191628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92360" y="263700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51280" y="335772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498920" y="3860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435640" y="386064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54560" y="342900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43640" y="263700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300720" y="1844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22920" y="1268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372360" y="1916280"/>
            <a:ext cx="57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67280" y="1341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075280" y="1125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211640" y="141300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08360" y="1989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564000" y="2708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24360" y="3429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15280" y="270828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299280" y="3500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508720" y="393372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3933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356000" y="1916280"/>
            <a:ext cx="1944720" cy="18000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549440" y="350208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КТО ИЩЕ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189080" y="3860640"/>
            <a:ext cx="25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Т Р У Д Н О С Т Ь -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93800" y="422100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АХОДИ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332000" y="4581360"/>
            <a:ext cx="244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 У Д Р О С Т Ь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24000" y="508464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. ВСЯКИЙ. КТО. ЧИТАТЬ. В. ЧТЕНИЕ. СИЛА. ЗНАТ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544500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ЧЕНЫЙ. ВОДИТЬ. НЕУЧЕНЫЙ. СЛЕД. ХОДИТЬ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9528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5420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04292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33020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6192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0656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95640" y="5950080"/>
            <a:ext cx="21564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48292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44720" y="5877000"/>
            <a:ext cx="9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78144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14036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290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71636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0544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9272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2616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08472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37380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610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20000" y="587700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45164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81056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0992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8692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7564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820000" y="587700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356000" y="278136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ердце ум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54920" y="1484280"/>
            <a:ext cx="208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В НАЧАЛ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ЛО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ОВО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DF5-EE17-41F8-B4FF-BE03AC9DC02E}" type="slidenum">
              <a:t>8</a:t>
            </a:fld>
          </a:p>
        </p:txBody>
      </p:sp>
    </p:spTree>
  </p:cSld>
  <p:transition>
    <p:checker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0" dur="1500" autoRev="1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31" dur="1500" autoRev="1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32" dur="1500" autoRev="1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324000" y="476280"/>
            <a:ext cx="849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{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НЕ. ВСЯКИЙ. КТО. ЧИТАТЬ. В. ЧТЕНИЕ. СИЛА. ЗНАТЬ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5280" y="234792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УЧЕНЫЙ. ВОДИТЬ. НЕУЧЕНЫЙ. СЛЕД. ХОДИТЬ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5280" y="393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54200" y="400356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04292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33020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61928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906560" y="400536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195640" y="4005360"/>
            <a:ext cx="21564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482920" y="400536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844720" y="3932280"/>
            <a:ext cx="9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781440" y="393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140360" y="400356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42908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71636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00544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400536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26160" y="393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08472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37380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66108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20000" y="393228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451640" y="393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1056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09928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386920" y="400356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67564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820000" y="393228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FE3-EA27-41D6-B284-F4ED1568FDDC}" type="slidenum">
              <a:t>9</a:t>
            </a:fld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6:18:47Z</dcterms:created>
  <dc:creator>paata</dc:creator>
  <dc:description/>
  <dc:language>en-US</dc:language>
  <cp:lastModifiedBy>paata</cp:lastModifiedBy>
  <dcterms:modified xsi:type="dcterms:W3CDTF">2007-08-10T09:15:39Z</dcterms:modified>
  <cp:revision>67</cp:revision>
  <dc:subject/>
  <dc:title>Slide 1</dc:title>
</cp:coreProperties>
</file>