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776-51B0-4241-B819-F1835C4F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F33-B52B-4439-801F-A5714873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DE1-24A5-4E97-BAC5-A06C5A8E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4E2-F818-4A68-A4CE-A6C5B340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21B-DCEC-4E5D-AABE-90CC9F48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213-5D58-412E-8F65-B78F043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612-CB95-400F-A709-E0ADE83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C7E-499C-4BD1-9680-2DD46E2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87B-FBA9-4CB1-B0B2-5D4A06BA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622-D319-4A13-9948-211B02E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71C-0697-42C5-BC22-6414DA0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CB3-AA01-45F7-B488-9DCFD93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3020-4448-49D6-9060-EE9522AB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лова подар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6147-3790-47CF-B608-66C2B452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8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54" name="Oval 5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6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2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4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8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9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1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29"/>
          <p:cNvSpPr/>
          <p:nvPr/>
        </p:nvSpPr>
        <p:spPr>
          <a:xfrm>
            <a:off x="4140360" y="1197000"/>
            <a:ext cx="502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592-9B85-45A4-B8C9-4B49178B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379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1FA-82A7-40D8-AE13-FE8F40C4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08000" y="404640"/>
            <a:ext cx="705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человеком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человеком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971640" y="476280"/>
            <a:ext cx="2663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973080" y="1054080"/>
            <a:ext cx="2664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любовь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6"/>
          <p:cNvSpPr/>
          <p:nvPr/>
        </p:nvSpPr>
        <p:spPr>
          <a:xfrm>
            <a:off x="1474920" y="32148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8"/>
          <p:cNvSpPr/>
          <p:nvPr/>
        </p:nvSpPr>
        <p:spPr>
          <a:xfrm>
            <a:off x="2556000" y="54450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9"/>
          <p:cNvSpPr/>
          <p:nvPr/>
        </p:nvSpPr>
        <p:spPr>
          <a:xfrm>
            <a:off x="6370560" y="24224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0"/>
          <p:cNvSpPr/>
          <p:nvPr/>
        </p:nvSpPr>
        <p:spPr>
          <a:xfrm>
            <a:off x="6515280" y="307008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6370560" y="3718080"/>
            <a:ext cx="21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E2D-632D-4ECD-A607-39DA731D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94E-37DA-4338-9858-9B19F298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3994200" y="1916280"/>
            <a:ext cx="1873080" cy="50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95640" y="2781360"/>
            <a:ext cx="18734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EB7-249D-4A27-84BC-18342C450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E986-AAE3-4E17-9210-512EC01E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700360" y="1285920"/>
            <a:ext cx="187308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075280" y="1341360"/>
            <a:ext cx="187308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492360" y="2133720"/>
            <a:ext cx="208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E4A-2603-4A94-82C3-7E7EA9EE7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8EDE-60C8-4A9F-8DB1-536D0365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82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6"/>
          <p:cNvSpPr/>
          <p:nvPr/>
        </p:nvSpPr>
        <p:spPr>
          <a:xfrm>
            <a:off x="4284720" y="1628640"/>
            <a:ext cx="143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DB6-3E4C-46E9-B5C2-9EB86EDAB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510-9B19-4772-ACEA-50B5F99B3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91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5" name="Oval 93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96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97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8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99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0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1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9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0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1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3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4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5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6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4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5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6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8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9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0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1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2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3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4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5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6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7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8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9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50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1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53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4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55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6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7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8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9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0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1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2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3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4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5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6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7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8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69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70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71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2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3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4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5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7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8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9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0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1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2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3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4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5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6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9878-41B4-4F9C-B099-24CC86C6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4EF7-DF6B-43EA-80FA-6CC31210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 ребята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ы очень добр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642 -0.37226 L 0.19705 0.26728 E">
                                      <p:cBhvr>
                                        <p:cTn id="6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C92-97FE-437D-9286-94813DB9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7BA-FC80-471B-BF8C-B9C133AF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630-9754-4922-8879-3A93A550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145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60B-C8DD-41E0-84DA-196E2636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16" name="Oval 1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493-B0E2-45DA-8BCD-61945243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36" name="Oval 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1"/>
          <p:cNvSpPr/>
          <p:nvPr/>
        </p:nvSpPr>
        <p:spPr>
          <a:xfrm>
            <a:off x="4321080" y="1768320"/>
            <a:ext cx="3952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4002-9F34-4E84-A2B7-C52BEC39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258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4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4F99-5DAE-40AA-8B88-F1A21ADA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31" name="Oval 3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4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9-08-30T07:58:03Z</dcterms:modified>
  <cp:revision>134</cp:revision>
  <dc:subject/>
  <dc:title>Slide 1</dc:title>
</cp:coreProperties>
</file>