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D3E1-80DA-4C1D-9503-F1EA0E9A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C6F-5E97-4A21-8271-CC827976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5748-E98B-4041-8E6D-58D4E4B4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9C0-F34A-43C7-AB53-9151F30E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103-6865-4E88-8640-D235408E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41A-89DE-43D2-B8F3-C7401C00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207-F155-4CC8-934D-BA058028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DFD-C001-409D-9A0C-37DE75F0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4EA1-C218-4001-A58C-CDABA610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785-BF0F-4A1F-9A92-BA8309AC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787-C6EE-4FA2-890E-3F1917E7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F833-36C9-47E5-B13E-5C66BD5D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2A41-033A-4917-BAF3-0AB85DFBC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УРОК: Сил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УРОК: Сил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1873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66"/>
                </a:solidFill>
                <a:uFillTx/>
                <a:latin typeface="Arial"/>
              </a:rPr>
              <a:t>Иде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Заговор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чтоб я т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крат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2997360"/>
            <a:ext cx="1368360" cy="2156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32720" y="1700280"/>
            <a:ext cx="216036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66"/>
                </a:solidFill>
                <a:uFillTx/>
                <a:latin typeface="Arial"/>
              </a:rPr>
              <a:t>Лейтмоти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Я верю в сил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ламен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1628640"/>
            <a:ext cx="396108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строение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1. Басня – её особе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2. Слушаем басн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3. Обсуждаем басн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4. Случаи из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5. Мы познаем мудр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6. Творческое пись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cc0066"/>
                </a:solidFill>
                <a:latin typeface="Arial"/>
              </a:rPr>
              <a:t>Наставления самому себ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7. Чем я обогатился на уро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Басня – её особ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24000" y="162864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Крат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Мор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ерсона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(животные, птицы, люд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Слушаем басн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016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Мы вдумчи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слуш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197000"/>
            <a:ext cx="2016000" cy="7920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1341360"/>
            <a:ext cx="3672000" cy="50328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2133720"/>
            <a:ext cx="849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Подружились мужик и медведь. Пригласил мужик медведя к себе в гости. Прощаясь, медведь поцеловал мужика, а заодно, по его просьбе, и жену мужика, Почуяв вонь медведя, женщина выплюнула и сказ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е по душе мне вонючий гос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Прошло время. Мужик пошел в лес. Он навестил медведя, захватив с собой топор, чтобы нарубить дров на зиму, Друзья обменялись любезностями, а потом медведь стал треб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- Ударь меня топором по голове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Мужик отказывался. Медведь настаивал, упорствовал. Под конец мужик ударил медведя топором по голове и разбил ему голов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Медведь побрёл в лес, а мужик – домой. Спустя месяц они встретили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У медведя рана зажила. И он сказ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- Брат мой, разбитая топором голова зажила, а сердце, раненое языком твоей жены, -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6165720"/>
            <a:ext cx="48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0066"/>
                </a:solidFill>
                <a:uFillTx/>
                <a:latin typeface="Arial"/>
              </a:rPr>
              <a:t>Предложите свое название бас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Обсуждаем басн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40000" y="1557360"/>
            <a:ext cx="4402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Вопросы и мн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случаи из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213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Вопросы учеников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3789360"/>
            <a:ext cx="7490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Объяснил ли мужик своей жене, какой ужасный поступ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на соверши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Почему медведь после оскорбления не нанес жене ответ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ый уд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Почему сердечная рана заживает так мучительно,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равнению  с телесной ран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Мы познаем мудр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456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Язык мой – враг м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прежде           рыщ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беду ищ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2060640"/>
            <a:ext cx="720720" cy="21600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3068640"/>
            <a:ext cx="36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Палкой можно бо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поранить тело, а з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сл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141300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Леопард береж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свои когти, мудр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человек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2276640"/>
            <a:ext cx="503280" cy="21564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2276640"/>
            <a:ext cx="720720" cy="21744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88000" y="2924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Полная бутылка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плещется, наполов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пустая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3789360"/>
            <a:ext cx="1657440" cy="21600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422100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У короткого ум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4724280"/>
            <a:ext cx="1274760" cy="21600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72360" y="4724280"/>
            <a:ext cx="914400" cy="21600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8000" y="5427720"/>
            <a:ext cx="51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Заполните пустые кл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рокомментируйте мудр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Творческое письмо</a:t>
            </a:r>
            <a:br>
              <a:rPr sz="4000"/>
            </a:b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Наставления самому с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68000" y="1628280"/>
            <a:ext cx="49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Моя речь должна бы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2276640"/>
            <a:ext cx="4464360" cy="28872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2852640"/>
            <a:ext cx="4464360" cy="28908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1280" y="3429000"/>
            <a:ext cx="4464360" cy="28908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1280" y="4005360"/>
            <a:ext cx="4464360" cy="28872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4581360"/>
            <a:ext cx="4464360" cy="28908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5734080"/>
            <a:ext cx="4464360" cy="28872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5157720"/>
            <a:ext cx="4464360" cy="28908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595008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……………………………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11280" y="616572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……………………………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Чем меня обогатил урок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«Сила Слова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3827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Заговори, чтоб я тебя уви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к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91080" y="1557360"/>
            <a:ext cx="430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Я верю в силу пламенного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2565360"/>
            <a:ext cx="309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Язык мой – враг м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режде  ума  рыщ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беду ищ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92720" y="256536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Леопард  береж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свои когти, мудр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человек  - свой язы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530064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У короткого ума – длинный язы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3860640"/>
            <a:ext cx="33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алкой можно бо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ранить тело, а з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слова проникают в душ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862440"/>
            <a:ext cx="33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лная бутылка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лещется, наполов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устая - бульк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Спасибо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Пусть будет ваша ре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красивой, доброй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отзывчив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4:47:08Z</dcterms:created>
  <dc:creator>Vladimir</dc:creator>
  <dc:description/>
  <dc:language>en-US</dc:language>
  <cp:lastModifiedBy>Vladimir</cp:lastModifiedBy>
  <dcterms:modified xsi:type="dcterms:W3CDTF">2008-11-29T19:52:30Z</dcterms:modified>
  <cp:revision>11</cp:revision>
  <dc:subject/>
  <dc:title>УРОК: Сила Слова</dc:title>
</cp:coreProperties>
</file>