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E7F9-165C-4BFD-BE8E-009947E48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C0E0-2739-4389-92D4-43FEC04E2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0D93-75A0-4FDC-A339-BF7B88894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65B-FE7A-4E89-A8EF-76691754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3D0-08E4-48A9-A9F4-A9A50351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3E4-F02B-441E-B4FF-B7BC1F92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155-ECB6-4BC1-BC43-2CF52775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8D2-C050-40F0-8F4C-0D7200D1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B50-AEA2-4EF6-AB43-09156F54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484-81C6-4D14-80FB-F2C6DD5F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AFD-9375-4400-BECA-3C830E58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1418-D894-48BE-8B86-336553DF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713-EFD5-48EE-92CB-9C955A56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515-051A-4190-A93E-DA0C0D39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11B-F052-4CC0-A862-E178573F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9751-EA5E-4D97-B5FD-6E59A0D2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четверт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четверт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Мощь и позн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0:56:26Z</dcterms:created>
  <dc:creator>paata</dc:creator>
  <dc:description/>
  <dc:language>en-US</dc:language>
  <cp:lastModifiedBy>Shalva Amaonashvili</cp:lastModifiedBy>
  <dcterms:modified xsi:type="dcterms:W3CDTF">2008-08-16T12:41:22Z</dcterms:modified>
  <cp:revision>119</cp:revision>
  <dc:subject/>
  <dc:title>Slide 1</dc:title>
</cp:coreProperties>
</file>