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4B0-70DF-49B4-9A1A-9C46FDC0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D27-340F-4B69-AB58-2632D547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794-99D6-4423-8B62-4062BB20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665-9036-4892-9D16-143D92FF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082-DE2B-4235-8248-5AF0E52D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272-E058-47D0-8DA0-65CABB60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BCE-7EEA-4335-97DD-39DF2742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930-4523-468E-8691-B4EA7E2B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403-2235-492E-842C-7D1A592F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9DC-A07F-4963-8B48-0E4C60F9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634-16D2-43D9-B539-D685FF0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6F6-957C-45E7-81A0-8BF0AB87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8583-4921-4DDF-BA4A-B0D94A99C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88968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атематика –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имфония чисе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{    ,    , ? ,    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,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,   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2771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2771640"/>
            <a:ext cx="360360" cy="360360"/>
          </a:xfrm>
          <a:prstGeom prst="ellipse">
            <a:avLst/>
          </a:prstGeom>
          <a:solidFill>
            <a:srgbClr val="eafea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211640" y="2771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6560" y="277164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2797200"/>
            <a:ext cx="430200" cy="263520"/>
          </a:xfrm>
          <a:custGeom>
            <a:avLst/>
            <a:gdLst/>
            <a:ahLst/>
            <a:rect l="l" t="t" r="r" b="b"/>
            <a:pathLst>
              <a:path w="1195" h="736">
                <a:moveTo>
                  <a:pt x="20099" y="6376"/>
                </a:moveTo>
                <a:cubicBezTo>
                  <a:pt x="20059" y="6377"/>
                  <a:pt x="20052" y="6379"/>
                  <a:pt x="20009" y="6361"/>
                </a:cubicBezTo>
                <a:cubicBezTo>
                  <a:pt x="19976" y="6347"/>
                  <a:pt x="19959" y="6339"/>
                  <a:pt x="19922" y="6339"/>
                </a:cubicBezTo>
                <a:cubicBezTo>
                  <a:pt x="19862" y="6339"/>
                  <a:pt x="19777" y="6353"/>
                  <a:pt x="19723" y="6381"/>
                </a:cubicBezTo>
                <a:cubicBezTo>
                  <a:pt x="19688" y="6399"/>
                  <a:pt x="19657" y="6440"/>
                  <a:pt x="19631" y="6468"/>
                </a:cubicBezTo>
                <a:cubicBezTo>
                  <a:pt x="19579" y="6523"/>
                  <a:pt x="19546" y="6575"/>
                  <a:pt x="19524" y="6647"/>
                </a:cubicBezTo>
                <a:cubicBezTo>
                  <a:pt x="19512" y="6684"/>
                  <a:pt x="19501" y="6717"/>
                  <a:pt x="19482" y="6751"/>
                </a:cubicBezTo>
                <a:cubicBezTo>
                  <a:pt x="19452" y="6804"/>
                  <a:pt x="19410" y="6856"/>
                  <a:pt x="19371" y="6902"/>
                </a:cubicBezTo>
                <a:cubicBezTo>
                  <a:pt x="19339" y="6940"/>
                  <a:pt x="19305" y="6968"/>
                  <a:pt x="19266" y="6998"/>
                </a:cubicBezTo>
                <a:cubicBezTo>
                  <a:pt x="19223" y="7031"/>
                  <a:pt x="19178" y="7060"/>
                  <a:pt x="19124" y="7070"/>
                </a:cubicBezTo>
                <a:cubicBezTo>
                  <a:pt x="19053" y="7083"/>
                  <a:pt x="18990" y="7057"/>
                  <a:pt x="18927" y="7026"/>
                </a:cubicBezTo>
                <a:cubicBezTo>
                  <a:pt x="18873" y="6999"/>
                  <a:pt x="18932" y="6997"/>
                  <a:pt x="18936" y="6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{    ,    , ? ,    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,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,   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50028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27280" y="3500280"/>
            <a:ext cx="360360" cy="360360"/>
          </a:xfrm>
          <a:prstGeom prst="ellipse">
            <a:avLst/>
          </a:prstGeom>
          <a:solidFill>
            <a:srgbClr val="eafea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211640" y="350028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6560" y="350028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525840"/>
            <a:ext cx="430200" cy="263520"/>
          </a:xfrm>
          <a:custGeom>
            <a:avLst/>
            <a:gdLst/>
            <a:ahLst/>
            <a:rect l="l" t="t" r="r" b="b"/>
            <a:pathLst>
              <a:path w="1195" h="736">
                <a:moveTo>
                  <a:pt x="20099" y="6376"/>
                </a:moveTo>
                <a:cubicBezTo>
                  <a:pt x="20059" y="6377"/>
                  <a:pt x="20052" y="6379"/>
                  <a:pt x="20009" y="6361"/>
                </a:cubicBezTo>
                <a:cubicBezTo>
                  <a:pt x="19976" y="6347"/>
                  <a:pt x="19959" y="6339"/>
                  <a:pt x="19922" y="6339"/>
                </a:cubicBezTo>
                <a:cubicBezTo>
                  <a:pt x="19862" y="6339"/>
                  <a:pt x="19777" y="6353"/>
                  <a:pt x="19723" y="6381"/>
                </a:cubicBezTo>
                <a:cubicBezTo>
                  <a:pt x="19688" y="6399"/>
                  <a:pt x="19657" y="6440"/>
                  <a:pt x="19631" y="6468"/>
                </a:cubicBezTo>
                <a:cubicBezTo>
                  <a:pt x="19579" y="6523"/>
                  <a:pt x="19546" y="6575"/>
                  <a:pt x="19524" y="6647"/>
                </a:cubicBezTo>
                <a:cubicBezTo>
                  <a:pt x="19512" y="6684"/>
                  <a:pt x="19501" y="6717"/>
                  <a:pt x="19482" y="6751"/>
                </a:cubicBezTo>
                <a:cubicBezTo>
                  <a:pt x="19452" y="6804"/>
                  <a:pt x="19410" y="6856"/>
                  <a:pt x="19371" y="6902"/>
                </a:cubicBezTo>
                <a:cubicBezTo>
                  <a:pt x="19339" y="6940"/>
                  <a:pt x="19305" y="6968"/>
                  <a:pt x="19266" y="6998"/>
                </a:cubicBezTo>
                <a:cubicBezTo>
                  <a:pt x="19223" y="7031"/>
                  <a:pt x="19178" y="7060"/>
                  <a:pt x="19124" y="7070"/>
                </a:cubicBezTo>
                <a:cubicBezTo>
                  <a:pt x="19053" y="7083"/>
                  <a:pt x="18990" y="7057"/>
                  <a:pt x="18927" y="7026"/>
                </a:cubicBezTo>
                <a:cubicBezTo>
                  <a:pt x="18873" y="6999"/>
                  <a:pt x="18932" y="6997"/>
                  <a:pt x="18936" y="6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   ,    ,    ,  ? ,    ,    ,    ,    ,  3 ,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36520" y="2195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57240" y="2195640"/>
            <a:ext cx="360360" cy="360360"/>
          </a:xfrm>
          <a:prstGeom prst="ellipse">
            <a:avLst/>
          </a:prstGeom>
          <a:solidFill>
            <a:srgbClr val="eafe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33960" y="2195640"/>
            <a:ext cx="360360" cy="360360"/>
          </a:xfrm>
          <a:prstGeom prst="rect">
            <a:avLst/>
          </a:prstGeom>
          <a:solidFill>
            <a:srgbClr val="eafe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84520" y="219708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865240" y="2195640"/>
            <a:ext cx="215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16520" y="219708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602320" y="2195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952880" y="2195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21600" y="2195640"/>
            <a:ext cx="1807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4480" y="2220840"/>
            <a:ext cx="430200" cy="263520"/>
          </a:xfrm>
          <a:custGeom>
            <a:avLst/>
            <a:gdLst/>
            <a:ahLst/>
            <a:rect l="l" t="t" r="r" b="b"/>
            <a:pathLst>
              <a:path w="1195" h="736">
                <a:moveTo>
                  <a:pt x="20099" y="6376"/>
                </a:moveTo>
                <a:cubicBezTo>
                  <a:pt x="20059" y="6377"/>
                  <a:pt x="20052" y="6379"/>
                  <a:pt x="20009" y="6361"/>
                </a:cubicBezTo>
                <a:cubicBezTo>
                  <a:pt x="19976" y="6347"/>
                  <a:pt x="19959" y="6339"/>
                  <a:pt x="19922" y="6339"/>
                </a:cubicBezTo>
                <a:cubicBezTo>
                  <a:pt x="19862" y="6339"/>
                  <a:pt x="19777" y="6353"/>
                  <a:pt x="19723" y="6381"/>
                </a:cubicBezTo>
                <a:cubicBezTo>
                  <a:pt x="19688" y="6399"/>
                  <a:pt x="19657" y="6440"/>
                  <a:pt x="19631" y="6468"/>
                </a:cubicBezTo>
                <a:cubicBezTo>
                  <a:pt x="19579" y="6523"/>
                  <a:pt x="19546" y="6575"/>
                  <a:pt x="19524" y="6647"/>
                </a:cubicBezTo>
                <a:cubicBezTo>
                  <a:pt x="19512" y="6684"/>
                  <a:pt x="19501" y="6717"/>
                  <a:pt x="19482" y="6751"/>
                </a:cubicBezTo>
                <a:cubicBezTo>
                  <a:pt x="19452" y="6804"/>
                  <a:pt x="19410" y="6856"/>
                  <a:pt x="19371" y="6902"/>
                </a:cubicBezTo>
                <a:cubicBezTo>
                  <a:pt x="19339" y="6940"/>
                  <a:pt x="19305" y="6968"/>
                  <a:pt x="19266" y="6998"/>
                </a:cubicBezTo>
                <a:cubicBezTo>
                  <a:pt x="19223" y="7031"/>
                  <a:pt x="19178" y="7060"/>
                  <a:pt x="19124" y="7070"/>
                </a:cubicBezTo>
                <a:cubicBezTo>
                  <a:pt x="19053" y="7083"/>
                  <a:pt x="18990" y="7057"/>
                  <a:pt x="18927" y="7026"/>
                </a:cubicBezTo>
                <a:cubicBezTo>
                  <a:pt x="18873" y="6999"/>
                  <a:pt x="18932" y="6997"/>
                  <a:pt x="18936" y="6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4169400">
            <a:off x="1187640" y="342864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24360" y="3573360"/>
            <a:ext cx="1440000" cy="266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573360"/>
            <a:ext cx="0" cy="266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4365720"/>
            <a:ext cx="316872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3429000"/>
            <a:ext cx="863640" cy="115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4169400">
            <a:off x="1332000" y="62064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24360" y="476280"/>
            <a:ext cx="1440000" cy="26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4169400">
            <a:off x="1187640" y="47592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620640"/>
            <a:ext cx="1440000" cy="266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43640" y="620640"/>
            <a:ext cx="0" cy="266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1413000"/>
            <a:ext cx="316872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16360" y="476280"/>
            <a:ext cx="863640" cy="115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4169400">
            <a:off x="1187640" y="342864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24360" y="3573360"/>
            <a:ext cx="1440000" cy="266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3573360"/>
            <a:ext cx="0" cy="266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4365720"/>
            <a:ext cx="316872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6360" y="3429000"/>
            <a:ext cx="863640" cy="115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116000" y="4581360"/>
            <a:ext cx="2664000" cy="122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5373720"/>
            <a:ext cx="1440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98560" y="1268280"/>
            <a:ext cx="2521080" cy="252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1844640"/>
            <a:ext cx="23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=16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292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58920" y="321300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820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8436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5272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18200" y="3139920"/>
            <a:ext cx="136980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32000" y="429264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9080" y="429264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430200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24360" y="430200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20000" y="321300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71640" y="2276640"/>
            <a:ext cx="71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4984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820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8436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272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18200" y="3139920"/>
            <a:ext cx="136980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40360" y="2276640"/>
            <a:ext cx="718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08720" y="2276640"/>
            <a:ext cx="718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08720" y="321300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40360" y="314172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71640" y="314172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00360" y="765000"/>
            <a:ext cx="4319640" cy="4319640"/>
            <a:chOff x="2700360" y="765000"/>
            <a:chExt cx="4319640" cy="4319640"/>
          </a:xfrm>
        </p:grpSpPr>
        <p:sp>
          <p:nvSpPr>
            <p:cNvPr id="375" name=""/>
            <p:cNvSpPr/>
            <p:nvPr/>
          </p:nvSpPr>
          <p:spPr>
            <a:xfrm>
              <a:off x="3419640" y="29257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00720" y="29257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80000" y="292572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964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0072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80000" y="184464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19640" y="76500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00720" y="76500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80000" y="76500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59280" y="328464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40360" y="328464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9640" y="328464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9280" y="220356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40360" y="220356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19640" y="220356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59280" y="11239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40360" y="11239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19640" y="112392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00360" y="364500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364500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61080" y="364500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00360" y="256392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81440" y="256392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61080" y="256392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00360" y="148428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81440" y="148428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61080" y="148428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03640" y="1844640"/>
            <a:ext cx="2736720" cy="2736720"/>
          </a:xfrm>
          <a:prstGeom prst="cube">
            <a:avLst>
              <a:gd name="adj" fmla="val 25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922200" y="3862440"/>
            <a:ext cx="2017800" cy="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924360" y="1844280"/>
            <a:ext cx="0" cy="201780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203640" y="3862440"/>
            <a:ext cx="720720" cy="71892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1844640"/>
            <a:ext cx="2736720" cy="2736720"/>
          </a:xfrm>
          <a:prstGeom prst="cube">
            <a:avLst>
              <a:gd name="adj" fmla="val 25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329840" y="3862440"/>
            <a:ext cx="2017800" cy="144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332000" y="1844280"/>
            <a:ext cx="0" cy="201780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11280" y="3862440"/>
            <a:ext cx="720720" cy="71892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92720" y="220500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3575160"/>
            <a:ext cx="1366920" cy="13665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92720" y="494172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92720" y="83808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59640" y="2206800"/>
            <a:ext cx="1366920" cy="13665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25800" y="220500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К: МАТЕМАТИКА -СИМФО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476280"/>
            <a:ext cx="503280" cy="1152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052640"/>
            <a:ext cx="502920" cy="57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7628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м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1125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76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ТО ИЩЕТ ТРУДНОСТЬ - НА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2160" y="1701720"/>
            <a:ext cx="1727280" cy="432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347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84464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131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160" y="229068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2349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9162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7080" y="22050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37640" y="2709720"/>
            <a:ext cx="749160" cy="416160"/>
          </a:xfrm>
          <a:custGeom>
            <a:avLst/>
            <a:gdLst/>
            <a:ahLst/>
            <a:rect l="l" t="t" r="r" b="b"/>
            <a:pathLst>
              <a:path w="2085" h="1155">
                <a:moveTo>
                  <a:pt x="22047" y="8618"/>
                </a:moveTo>
                <a:cubicBezTo>
                  <a:pt x="22080" y="8634"/>
                  <a:pt x="22108" y="8651"/>
                  <a:pt x="22144" y="8661"/>
                </a:cubicBezTo>
                <a:cubicBezTo>
                  <a:pt x="22192" y="8675"/>
                  <a:pt x="22231" y="8680"/>
                  <a:pt x="22281" y="8676"/>
                </a:cubicBezTo>
                <a:cubicBezTo>
                  <a:pt x="22351" y="8670"/>
                  <a:pt x="22411" y="8649"/>
                  <a:pt x="22476" y="8624"/>
                </a:cubicBezTo>
                <a:cubicBezTo>
                  <a:pt x="22559" y="8592"/>
                  <a:pt x="22635" y="8547"/>
                  <a:pt x="22714" y="8506"/>
                </a:cubicBezTo>
                <a:cubicBezTo>
                  <a:pt x="22800" y="8461"/>
                  <a:pt x="22886" y="8416"/>
                  <a:pt x="22968" y="8364"/>
                </a:cubicBezTo>
                <a:cubicBezTo>
                  <a:pt x="23058" y="8307"/>
                  <a:pt x="23146" y="8248"/>
                  <a:pt x="23233" y="8188"/>
                </a:cubicBezTo>
                <a:cubicBezTo>
                  <a:pt x="23481" y="8017"/>
                  <a:pt x="23759" y="7870"/>
                  <a:pt x="23985" y="7671"/>
                </a:cubicBezTo>
                <a:cubicBezTo>
                  <a:pt x="24025" y="7636"/>
                  <a:pt x="24076" y="7602"/>
                  <a:pt x="24112" y="7562"/>
                </a:cubicBezTo>
                <a:cubicBezTo>
                  <a:pt x="24118" y="7550"/>
                  <a:pt x="24125" y="7539"/>
                  <a:pt x="24131" y="752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6720" y="249228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28000" y="2565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19280" y="3141720"/>
            <a:ext cx="1008000" cy="1008000"/>
            <a:chOff x="1619280" y="3141720"/>
            <a:chExt cx="1008000" cy="1008000"/>
          </a:xfrm>
        </p:grpSpPr>
        <p:sp>
          <p:nvSpPr>
            <p:cNvPr id="65" name=""/>
            <p:cNvSpPr/>
            <p:nvPr/>
          </p:nvSpPr>
          <p:spPr>
            <a:xfrm>
              <a:off x="161928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54800" y="3141720"/>
              <a:ext cx="672480" cy="6721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19280" y="3477600"/>
              <a:ext cx="672480" cy="672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97964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4000" y="3141720"/>
            <a:ext cx="1008000" cy="1008000"/>
            <a:chOff x="324000" y="3141720"/>
            <a:chExt cx="1008000" cy="1008000"/>
          </a:xfrm>
        </p:grpSpPr>
        <p:sp>
          <p:nvSpPr>
            <p:cNvPr id="70" name=""/>
            <p:cNvSpPr/>
            <p:nvPr/>
          </p:nvSpPr>
          <p:spPr>
            <a:xfrm>
              <a:off x="32400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3141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5640" y="3393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28000" y="3645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80000" y="389808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8436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95280" y="5300640"/>
            <a:ext cx="8229600" cy="1143000"/>
            <a:chOff x="395280" y="5300640"/>
            <a:chExt cx="8229600" cy="1143000"/>
          </a:xfrm>
        </p:grpSpPr>
        <p:sp>
          <p:nvSpPr>
            <p:cNvPr id="78" name=""/>
            <p:cNvSpPr/>
            <p:nvPr/>
          </p:nvSpPr>
          <p:spPr>
            <a:xfrm>
              <a:off x="395280" y="53006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69840" y="572292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0560" y="572292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67280" y="572292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7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698560" y="572292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49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43564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78620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54560" y="572292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4848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 flipV="1">
            <a:off x="3708360" y="321264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03640" y="36450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5440" y="4076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084720" y="29242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752600">
            <a:off x="6659280" y="3357360"/>
            <a:ext cx="1436760" cy="60624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17080" y="3284640"/>
            <a:ext cx="502920" cy="122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11280" y="249228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4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472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1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5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9308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02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2256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5928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9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092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6728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0400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73892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67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4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7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11280" y="249228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4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8472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1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5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9308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02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2256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5928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3092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0400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73892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7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4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116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11280" y="249228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4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8472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308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02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2256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5928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9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3092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86728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0400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3892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67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83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4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116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0508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4980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8652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2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9581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42920" y="227664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124000" y="227664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03640" y="227664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42920" y="335592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24000" y="335592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3640" y="335592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42920" y="443556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24000" y="443556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3640" y="443556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234936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0920" y="3429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4437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16000" y="566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97080" y="566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19640" y="566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11640" y="450864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13080" y="3429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11640" y="234792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48360" y="2276640"/>
            <a:ext cx="38494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2 3 4 5 6 7 9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X 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? ? ? ? ? ? ?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42920" y="1197000"/>
            <a:ext cx="2556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ля в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14920" y="1197000"/>
            <a:ext cx="4321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148360" y="2349360"/>
            <a:ext cx="374472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К: МАТЕМАТИКА -СИМФО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92360" y="476280"/>
            <a:ext cx="503280" cy="1152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40360" y="1052640"/>
            <a:ext cx="502920" cy="57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67280" y="47628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м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16360" y="1125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32720" y="476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ТО ИЩЕТ ТРУДНОСТЬ - НА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42160" y="1701720"/>
            <a:ext cx="1727280" cy="432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87280" y="2347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68360" y="184464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8000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64000" y="2131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3272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1160" y="229068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258920" y="2349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40000" y="19162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437080" y="22050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0400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937640" y="2709720"/>
            <a:ext cx="749160" cy="416160"/>
          </a:xfrm>
          <a:custGeom>
            <a:avLst/>
            <a:gdLst/>
            <a:ahLst/>
            <a:rect l="l" t="t" r="r" b="b"/>
            <a:pathLst>
              <a:path w="2085" h="1155">
                <a:moveTo>
                  <a:pt x="22047" y="8618"/>
                </a:moveTo>
                <a:cubicBezTo>
                  <a:pt x="22080" y="8634"/>
                  <a:pt x="22108" y="8651"/>
                  <a:pt x="22144" y="8661"/>
                </a:cubicBezTo>
                <a:cubicBezTo>
                  <a:pt x="22192" y="8675"/>
                  <a:pt x="22231" y="8680"/>
                  <a:pt x="22281" y="8676"/>
                </a:cubicBezTo>
                <a:cubicBezTo>
                  <a:pt x="22351" y="8670"/>
                  <a:pt x="22411" y="8649"/>
                  <a:pt x="22476" y="8624"/>
                </a:cubicBezTo>
                <a:cubicBezTo>
                  <a:pt x="22559" y="8592"/>
                  <a:pt x="22635" y="8547"/>
                  <a:pt x="22714" y="8506"/>
                </a:cubicBezTo>
                <a:cubicBezTo>
                  <a:pt x="22800" y="8461"/>
                  <a:pt x="22886" y="8416"/>
                  <a:pt x="22968" y="8364"/>
                </a:cubicBezTo>
                <a:cubicBezTo>
                  <a:pt x="23058" y="8307"/>
                  <a:pt x="23146" y="8248"/>
                  <a:pt x="23233" y="8188"/>
                </a:cubicBezTo>
                <a:cubicBezTo>
                  <a:pt x="23481" y="8017"/>
                  <a:pt x="23759" y="7870"/>
                  <a:pt x="23985" y="7671"/>
                </a:cubicBezTo>
                <a:cubicBezTo>
                  <a:pt x="24025" y="7636"/>
                  <a:pt x="24076" y="7602"/>
                  <a:pt x="24112" y="7562"/>
                </a:cubicBezTo>
                <a:cubicBezTo>
                  <a:pt x="24118" y="7550"/>
                  <a:pt x="24125" y="7539"/>
                  <a:pt x="24131" y="752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6720" y="249228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028000" y="2565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619280" y="3141720"/>
            <a:ext cx="1008000" cy="1008000"/>
            <a:chOff x="1619280" y="3141720"/>
            <a:chExt cx="1008000" cy="1008000"/>
          </a:xfrm>
        </p:grpSpPr>
        <p:sp>
          <p:nvSpPr>
            <p:cNvPr id="543" name=""/>
            <p:cNvSpPr/>
            <p:nvPr/>
          </p:nvSpPr>
          <p:spPr>
            <a:xfrm>
              <a:off x="161928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54800" y="3141720"/>
              <a:ext cx="672480" cy="6721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19280" y="3477600"/>
              <a:ext cx="672480" cy="672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97964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24000" y="3141720"/>
            <a:ext cx="1008000" cy="1008000"/>
            <a:chOff x="324000" y="3141720"/>
            <a:chExt cx="1008000" cy="1008000"/>
          </a:xfrm>
        </p:grpSpPr>
        <p:sp>
          <p:nvSpPr>
            <p:cNvPr id="548" name=""/>
            <p:cNvSpPr/>
            <p:nvPr/>
          </p:nvSpPr>
          <p:spPr>
            <a:xfrm>
              <a:off x="32400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4000" y="3141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5640" y="3393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8000" y="3645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80000" y="389808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8436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40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5280" y="5300640"/>
            <a:ext cx="8229600" cy="1143000"/>
            <a:chOff x="395280" y="5300640"/>
            <a:chExt cx="8229600" cy="1143000"/>
          </a:xfrm>
        </p:grpSpPr>
        <p:sp>
          <p:nvSpPr>
            <p:cNvPr id="556" name=""/>
            <p:cNvSpPr/>
            <p:nvPr/>
          </p:nvSpPr>
          <p:spPr>
            <a:xfrm>
              <a:off x="395280" y="53006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69840" y="572292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90560" y="572292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67280" y="572292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17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2698560" y="572292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49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43564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78620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54560" y="572292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97800" y="574848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 flipV="1">
            <a:off x="3708360" y="321264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70836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003640" y="36450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05440" y="4076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084720" y="29242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19752600">
            <a:off x="6659280" y="3357360"/>
            <a:ext cx="1436760" cy="60624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317080" y="3284640"/>
            <a:ext cx="502920" cy="122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" dur="1000" autoRev="1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" dur="1000" autoRev="1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133800" y="4076640"/>
            <a:ext cx="3743280" cy="2448000"/>
          </a:xfrm>
          <a:prstGeom prst="ellipse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7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11280" y="33336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34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472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21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5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09308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02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6920" y="47736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12256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5928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092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6728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0400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73892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67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836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34144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95280" y="1700280"/>
            <a:ext cx="2160720" cy="2160360"/>
            <a:chOff x="395280" y="1700280"/>
            <a:chExt cx="2160720" cy="2160360"/>
          </a:xfrm>
        </p:grpSpPr>
        <p:sp>
          <p:nvSpPr>
            <p:cNvPr id="599" name=""/>
            <p:cNvSpPr/>
            <p:nvPr/>
          </p:nvSpPr>
          <p:spPr>
            <a:xfrm>
              <a:off x="75492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9564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35640" y="278100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92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9564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35640" y="223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492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564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35640" y="170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456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11564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55280" y="296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456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1564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55280" y="241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456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1564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55280" y="187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528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3600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76000" y="314064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528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3600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76000" y="259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528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3600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76000" y="205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24000" y="4221000"/>
            <a:ext cx="2736720" cy="2089440"/>
            <a:chOff x="324000" y="4221000"/>
            <a:chExt cx="2736720" cy="2089440"/>
          </a:xfrm>
        </p:grpSpPr>
        <p:sp>
          <p:nvSpPr>
            <p:cNvPr id="627" name=""/>
            <p:cNvSpPr/>
            <p:nvPr/>
          </p:nvSpPr>
          <p:spPr>
            <a:xfrm>
              <a:off x="324000" y="4221000"/>
              <a:ext cx="273672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2 3 4 5 6 7 9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 X 3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_____________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 ? ? ? ? ? ? ?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4000" y="4266000"/>
              <a:ext cx="2662200" cy="20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422520" y="4581360"/>
            <a:ext cx="3024360" cy="1377720"/>
            <a:chOff x="3422520" y="4581360"/>
            <a:chExt cx="3024360" cy="1377720"/>
          </a:xfrm>
        </p:grpSpPr>
        <p:sp>
          <p:nvSpPr>
            <p:cNvPr id="630" name=""/>
            <p:cNvSpPr/>
            <p:nvPr/>
          </p:nvSpPr>
          <p:spPr>
            <a:xfrm>
              <a:off x="399348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2252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3176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7040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3284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70400" y="501804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5636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6188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6712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0656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1136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551640" y="2852640"/>
            <a:ext cx="2592000" cy="2316240"/>
            <a:chOff x="6551640" y="2852640"/>
            <a:chExt cx="2592000" cy="2316240"/>
          </a:xfrm>
        </p:grpSpPr>
        <p:sp>
          <p:nvSpPr>
            <p:cNvPr id="643" name=""/>
            <p:cNvSpPr/>
            <p:nvPr/>
          </p:nvSpPr>
          <p:spPr>
            <a:xfrm>
              <a:off x="698364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332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6228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8364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7332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16228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8364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7332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6228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51640" y="28922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5164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51640" y="40305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2324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1292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8000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2000" y="40694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71272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12000" y="28911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563640" y="1844280"/>
            <a:ext cx="1440000" cy="1440360"/>
            <a:chOff x="3563640" y="1844280"/>
            <a:chExt cx="1440000" cy="1440360"/>
          </a:xfrm>
        </p:grpSpPr>
        <p:sp>
          <p:nvSpPr>
            <p:cNvPr id="662" name=""/>
            <p:cNvSpPr/>
            <p:nvPr/>
          </p:nvSpPr>
          <p:spPr>
            <a:xfrm>
              <a:off x="356400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3942000" y="2906280"/>
              <a:ext cx="1061280" cy="72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943080" y="1844280"/>
              <a:ext cx="0" cy="10616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3563640" y="2906280"/>
              <a:ext cx="379080" cy="3780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5983200" y="1341360"/>
            <a:ext cx="1290600" cy="10764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51560" y="1628640"/>
            <a:ext cx="1613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88968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ПАСИБО, 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АТЕМАТИК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3800" y="4076640"/>
            <a:ext cx="3743280" cy="2448000"/>
          </a:xfrm>
          <a:prstGeom prst="ellipse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33336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2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47736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256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092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3892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7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144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5280" y="1700280"/>
            <a:ext cx="2160720" cy="2160360"/>
            <a:chOff x="395280" y="1700280"/>
            <a:chExt cx="2160720" cy="2160360"/>
          </a:xfrm>
        </p:grpSpPr>
        <p:sp>
          <p:nvSpPr>
            <p:cNvPr id="121" name=""/>
            <p:cNvSpPr/>
            <p:nvPr/>
          </p:nvSpPr>
          <p:spPr>
            <a:xfrm>
              <a:off x="75492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5640" y="278100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92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64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5640" y="223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492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564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35640" y="170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456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1564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55280" y="296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56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564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55280" y="241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456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564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55280" y="187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528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3600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6000" y="314064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28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600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76000" y="259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28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600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76000" y="205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24000" y="4221000"/>
            <a:ext cx="2736720" cy="2089440"/>
            <a:chOff x="324000" y="4221000"/>
            <a:chExt cx="2736720" cy="2089440"/>
          </a:xfrm>
        </p:grpSpPr>
        <p:sp>
          <p:nvSpPr>
            <p:cNvPr id="149" name=""/>
            <p:cNvSpPr/>
            <p:nvPr/>
          </p:nvSpPr>
          <p:spPr>
            <a:xfrm>
              <a:off x="324000" y="4221000"/>
              <a:ext cx="273672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2 3 4 5 6 7 9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 X 3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_____________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 ? ? ? ? ? ? ?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000" y="4266000"/>
              <a:ext cx="2662200" cy="20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422520" y="4581360"/>
            <a:ext cx="3024360" cy="1377720"/>
            <a:chOff x="3422520" y="4581360"/>
            <a:chExt cx="3024360" cy="1377720"/>
          </a:xfrm>
        </p:grpSpPr>
        <p:sp>
          <p:nvSpPr>
            <p:cNvPr id="152" name=""/>
            <p:cNvSpPr/>
            <p:nvPr/>
          </p:nvSpPr>
          <p:spPr>
            <a:xfrm>
              <a:off x="399348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252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176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7040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420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284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0400" y="501804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5636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188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6712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0656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136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551640" y="2852640"/>
            <a:ext cx="2592000" cy="2316240"/>
            <a:chOff x="6551640" y="2852640"/>
            <a:chExt cx="2592000" cy="2316240"/>
          </a:xfrm>
        </p:grpSpPr>
        <p:sp>
          <p:nvSpPr>
            <p:cNvPr id="165" name=""/>
            <p:cNvSpPr/>
            <p:nvPr/>
          </p:nvSpPr>
          <p:spPr>
            <a:xfrm>
              <a:off x="698364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7332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6228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8364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7332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228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364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7332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6228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1640" y="28922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164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1640" y="40305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2324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1292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8000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12000" y="40694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1272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712000" y="28911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63640" y="1844280"/>
            <a:ext cx="1440000" cy="1440360"/>
            <a:chOff x="3563640" y="1844280"/>
            <a:chExt cx="1440000" cy="1440360"/>
          </a:xfrm>
        </p:grpSpPr>
        <p:sp>
          <p:nvSpPr>
            <p:cNvPr id="184" name=""/>
            <p:cNvSpPr/>
            <p:nvPr/>
          </p:nvSpPr>
          <p:spPr>
            <a:xfrm>
              <a:off x="356400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942000" y="2906280"/>
              <a:ext cx="1061280" cy="72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943080" y="1844280"/>
              <a:ext cx="0" cy="10616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63640" y="2906280"/>
              <a:ext cx="379080" cy="3780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983200" y="1341360"/>
            <a:ext cx="1290600" cy="10764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1560" y="1628640"/>
            <a:ext cx="1613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К: МАТЕМАТИКА -СИМФО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476280"/>
            <a:ext cx="503280" cy="1152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1052640"/>
            <a:ext cx="502920" cy="57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47628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м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1125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476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ТО ИЩЕТ ТРУДНОСТЬ - НА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2160" y="1701720"/>
            <a:ext cx="1727280" cy="432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347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184464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2131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160" y="229068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349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40000" y="19162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7080" y="22050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0400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37640" y="2709720"/>
            <a:ext cx="749160" cy="416160"/>
          </a:xfrm>
          <a:custGeom>
            <a:avLst/>
            <a:gdLst/>
            <a:ahLst/>
            <a:rect l="l" t="t" r="r" b="b"/>
            <a:pathLst>
              <a:path w="2085" h="1155">
                <a:moveTo>
                  <a:pt x="22047" y="8618"/>
                </a:moveTo>
                <a:cubicBezTo>
                  <a:pt x="22080" y="8634"/>
                  <a:pt x="22108" y="8651"/>
                  <a:pt x="22144" y="8661"/>
                </a:cubicBezTo>
                <a:cubicBezTo>
                  <a:pt x="22192" y="8675"/>
                  <a:pt x="22231" y="8680"/>
                  <a:pt x="22281" y="8676"/>
                </a:cubicBezTo>
                <a:cubicBezTo>
                  <a:pt x="22351" y="8670"/>
                  <a:pt x="22411" y="8649"/>
                  <a:pt x="22476" y="8624"/>
                </a:cubicBezTo>
                <a:cubicBezTo>
                  <a:pt x="22559" y="8592"/>
                  <a:pt x="22635" y="8547"/>
                  <a:pt x="22714" y="8506"/>
                </a:cubicBezTo>
                <a:cubicBezTo>
                  <a:pt x="22800" y="8461"/>
                  <a:pt x="22886" y="8416"/>
                  <a:pt x="22968" y="8364"/>
                </a:cubicBezTo>
                <a:cubicBezTo>
                  <a:pt x="23058" y="8307"/>
                  <a:pt x="23146" y="8248"/>
                  <a:pt x="23233" y="8188"/>
                </a:cubicBezTo>
                <a:cubicBezTo>
                  <a:pt x="23481" y="8017"/>
                  <a:pt x="23759" y="7870"/>
                  <a:pt x="23985" y="7671"/>
                </a:cubicBezTo>
                <a:cubicBezTo>
                  <a:pt x="24025" y="7636"/>
                  <a:pt x="24076" y="7602"/>
                  <a:pt x="24112" y="7562"/>
                </a:cubicBezTo>
                <a:cubicBezTo>
                  <a:pt x="24118" y="7550"/>
                  <a:pt x="24125" y="7539"/>
                  <a:pt x="24131" y="752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249228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028000" y="2565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619280" y="3141720"/>
            <a:ext cx="1008000" cy="1008000"/>
            <a:chOff x="1619280" y="3141720"/>
            <a:chExt cx="1008000" cy="1008000"/>
          </a:xfrm>
        </p:grpSpPr>
        <p:sp>
          <p:nvSpPr>
            <p:cNvPr id="214" name=""/>
            <p:cNvSpPr/>
            <p:nvPr/>
          </p:nvSpPr>
          <p:spPr>
            <a:xfrm>
              <a:off x="161928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54800" y="3141720"/>
              <a:ext cx="672480" cy="6721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19280" y="3477600"/>
              <a:ext cx="672480" cy="672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97964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4000" y="3141720"/>
            <a:ext cx="1008000" cy="1008000"/>
            <a:chOff x="324000" y="3141720"/>
            <a:chExt cx="1008000" cy="1008000"/>
          </a:xfrm>
        </p:grpSpPr>
        <p:sp>
          <p:nvSpPr>
            <p:cNvPr id="219" name=""/>
            <p:cNvSpPr/>
            <p:nvPr/>
          </p:nvSpPr>
          <p:spPr>
            <a:xfrm>
              <a:off x="32400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" y="3141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5640" y="3393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000" y="3645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0" y="389808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436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5300640"/>
            <a:ext cx="8229600" cy="1143000"/>
            <a:chOff x="395280" y="5300640"/>
            <a:chExt cx="8229600" cy="1143000"/>
          </a:xfrm>
        </p:grpSpPr>
        <p:sp>
          <p:nvSpPr>
            <p:cNvPr id="227" name=""/>
            <p:cNvSpPr/>
            <p:nvPr/>
          </p:nvSpPr>
          <p:spPr>
            <a:xfrm>
              <a:off x="395280" y="53006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69840" y="572292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90560" y="572292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7280" y="572292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17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698560" y="572292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49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43564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78620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54560" y="572292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97800" y="574848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V="1">
            <a:off x="3708360" y="321264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003640" y="36450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5440" y="4076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084720" y="29242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9752600">
            <a:off x="6659280" y="3357360"/>
            <a:ext cx="1436760" cy="60624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17080" y="3284640"/>
            <a:ext cx="502920" cy="122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0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" dur="10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856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98560" y="126828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62200" y="213372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27280" y="2997360"/>
            <a:ext cx="863640" cy="8632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86244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8800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38920" y="1268280"/>
            <a:ext cx="2305080" cy="2305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2421000"/>
            <a:ext cx="2305080" cy="230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107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9856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98560" y="126828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2200" y="213372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2997360"/>
            <a:ext cx="863640" cy="8632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0920" y="386244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38920" y="1268280"/>
            <a:ext cx="2305080" cy="2305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2421000"/>
            <a:ext cx="2305080" cy="230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107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95280" y="2573280"/>
            <a:ext cx="8229600" cy="1143000"/>
            <a:chOff x="395280" y="2573280"/>
            <a:chExt cx="8229600" cy="1143000"/>
          </a:xfrm>
        </p:grpSpPr>
        <p:sp>
          <p:nvSpPr>
            <p:cNvPr id="279" name=""/>
            <p:cNvSpPr/>
            <p:nvPr/>
          </p:nvSpPr>
          <p:spPr>
            <a:xfrm>
              <a:off x="395280" y="25732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92160" y="299556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12880" y="299556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89240" y="299556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0160" y="2997360"/>
              <a:ext cx="180720" cy="3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20880" y="299556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72160" y="2997360"/>
              <a:ext cx="181080" cy="3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457600" y="299556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808520" y="299556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6880" y="29955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0120" y="302112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paata</cp:lastModifiedBy>
  <dcterms:modified xsi:type="dcterms:W3CDTF">2007-08-10T09:36:47Z</dcterms:modified>
  <cp:revision>46</cp:revision>
  <dc:subject/>
  <dc:title>Slide 1</dc:title>
</cp:coreProperties>
</file>