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AAE97-2B5E-4B9B-87A1-2A76011AE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1E50E-4987-4812-A1BC-31642A56D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29140-CBE7-4896-9BFF-4D9031642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92E7E-A587-4A1C-BB02-1B589ECEF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C966-6CDA-4B8D-A9BE-D02982F4E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AA25-64CC-4D9B-B8E1-50519EA5C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0A7F-7513-461F-984C-F0D2DD0EA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339A-9AF2-4AF0-BE10-62EBDDFB3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FA6E-056F-4A3C-9E2F-4F7E82D23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1BB4-3CB9-47C9-B5D6-6C02899FC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80BD-8D7D-4B93-9112-083468CF8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991D-1587-4C27-97B9-09295BF43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E718-9B45-4150-9035-CF94B08BC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6AE5-9965-4170-95EC-23594489E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F79E-3C25-4609-BD4D-C00F5C633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FAA7-D3A3-4C0E-AA40-6E103237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DE756-F374-4037-98B8-F7CD3D64B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nashdom.shkola@mail.ru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День пятый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2438280"/>
            <a:ext cx="9144000" cy="198144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«Мы соработники у Бога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m_26753.jpg"/>
          <p:cNvPicPr/>
          <p:nvPr/>
        </p:nvPicPr>
        <p:blipFill>
          <a:blip r:embed="rId1"/>
          <a:stretch/>
        </p:blipFill>
        <p:spPr>
          <a:xfrm>
            <a:off x="380880" y="228600"/>
            <a:ext cx="1738440" cy="2133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220px-Johan_amos_comenius_1592-1671.jpg"/>
          <p:cNvPicPr/>
          <p:nvPr/>
        </p:nvPicPr>
        <p:blipFill>
          <a:blip r:embed="rId2"/>
          <a:stretch/>
        </p:blipFill>
        <p:spPr>
          <a:xfrm>
            <a:off x="6934320" y="360360"/>
            <a:ext cx="1768320" cy="2001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200px-Janusz_Korczak.PNG"/>
          <p:cNvPicPr/>
          <p:nvPr/>
        </p:nvPicPr>
        <p:blipFill>
          <a:blip r:embed="rId3"/>
          <a:stretch/>
        </p:blipFill>
        <p:spPr>
          <a:xfrm>
            <a:off x="762120" y="3581280"/>
            <a:ext cx="1352520" cy="2151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images.jpeg"/>
          <p:cNvPicPr/>
          <p:nvPr/>
        </p:nvPicPr>
        <p:blipFill>
          <a:blip r:embed="rId4"/>
          <a:stretch/>
        </p:blipFill>
        <p:spPr>
          <a:xfrm>
            <a:off x="7010280" y="3657600"/>
            <a:ext cx="1473480" cy="2117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180px-Makarenko.jpg"/>
          <p:cNvPicPr/>
          <p:nvPr/>
        </p:nvPicPr>
        <p:blipFill>
          <a:blip r:embed="rId5"/>
          <a:stretch/>
        </p:blipFill>
        <p:spPr>
          <a:xfrm>
            <a:off x="2590920" y="4495680"/>
            <a:ext cx="1447560" cy="2082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Johann_Heinrich_Pestalozzi.jpg"/>
          <p:cNvPicPr/>
          <p:nvPr/>
        </p:nvPicPr>
        <p:blipFill>
          <a:blip r:embed="rId6"/>
          <a:stretch/>
        </p:blipFill>
        <p:spPr>
          <a:xfrm>
            <a:off x="5003640" y="4495680"/>
            <a:ext cx="1397160" cy="20685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457200" y="11592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просы для размышлени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250920" y="836640"/>
            <a:ext cx="864216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рл Роджерс: вопросы самому себ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ею ли я входить во внутренний мир человека, который учится и взрослеет? Смог лия личностно, эмоционально откликнуться на это ми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ею ли я позволить самому себе быть личностью и строить открытые, эмоционально насыщенные, не ролевые взаимоотношения с моими учениками; отношения, в которых все учатс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мею ли я обнаружить интересы каждого в моем классе и смогу ли позволить ему или ей следовать этим индивидуальным интересам, куда бы они не вел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могу ли я помочь моим ученикам сохранить живой интерес, любопытство по отношению к самому себе, к миру, который их окружает, - сохранить и поддерживать самое дорогое, чем обладает челове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мог бы я помочь ребенку расти целостным человеком, чувства которого порождают идеи, а идеи чувств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457200" y="11592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ысли для анализ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765000"/>
            <a:ext cx="9144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Януш Корч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«Воспитатель, котор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не сковывает, а освобождае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не подавляет, а возноси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не комкает, а развивае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не диктует, а учи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не требует, а спрашивает,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переживет вместе с ребенком много вдохновляющих минут, не раз следуя увлаженным взором за борьбой ангела с сатаною, где светлый ангел побеждает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1042920" y="765000"/>
            <a:ext cx="7201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такты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дрес: Амурская область, город Благовещенск, ул. Чехова, 5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лефон: 33-23-73, 33-47-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йт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kola-nash-dom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та: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ashdom.shkola@mail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йт гуманной педагогик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umannaja-pedagogika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йт Издательского до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. Амонашви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zdatamon.narod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6T10:56:26Z</dcterms:created>
  <dc:creator>paata</dc:creator>
  <dc:description/>
  <dc:language>en-US</dc:language>
  <cp:lastModifiedBy>User</cp:lastModifiedBy>
  <dcterms:modified xsi:type="dcterms:W3CDTF">2013-01-15T05:02:07Z</dcterms:modified>
  <cp:revision>126</cp:revision>
  <dc:subject/>
  <dc:title>Slide 1</dc:title>
</cp:coreProperties>
</file>