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09A-6C12-4818-91DC-7218A1D4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3496-B8D3-4305-9EC7-3A899CB9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C84-174D-4386-B778-2934DD7B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B84-C479-4D36-A9E6-2717DB45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C71B-D4D8-4783-8167-B8B82761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806-5E9E-4253-91F2-21D0344B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ABC-5521-4C48-8896-9756FE46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403-10E6-42CC-B470-0BB12C2A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0A2-87D2-4AA0-81DF-53B97BE9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BF6-742E-4FA8-960D-6DDAF422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8B3-6D08-4C33-9CAC-CAE93E37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CAE-6673-43F6-B0D6-FACB717D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DD61-2B9A-497C-99C5-203F4948E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Сердцевед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50920" y="333360"/>
            <a:ext cx="30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ердце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2340000" y="2062080"/>
            <a:ext cx="4681440" cy="5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Солнце всех солнц есть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348000" y="3645000"/>
            <a:ext cx="22320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006600"/>
                </a:solidFill>
                <a:uFillTx/>
                <a:latin typeface="Arial"/>
              </a:rPr>
              <a:t>Вопросы: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1. Что такое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2. Как облагораживать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3. Заглянем в св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4572000" y="404640"/>
            <a:ext cx="4103640" cy="8636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«Источник богатств, духовных и материальных, есть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Сердц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»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50920" y="1197000"/>
            <a:ext cx="1655640" cy="144000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«Вся жизнь проходит через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39640" y="285264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Где сокровища человека, там и буде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рдц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е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250920" y="3860640"/>
            <a:ext cx="2736720" cy="1440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Добрый человек из доброго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ердц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выносит доброе.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лой человек из 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5938920" y="3718080"/>
            <a:ext cx="3025800" cy="2447640"/>
          </a:xfrm>
          <a:prstGeom prst="rect">
            <a:avLst/>
          </a:prstGeom>
          <a:solidFill>
            <a:srgbClr val="a3f1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ыводы: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3.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50920" y="333360"/>
            <a:ext cx="30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ердце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340000" y="2062080"/>
            <a:ext cx="4681440" cy="5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Солнце всех солнц есть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348000" y="3645000"/>
            <a:ext cx="22320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006600"/>
                </a:solidFill>
                <a:uFillTx/>
                <a:latin typeface="Arial"/>
              </a:rPr>
              <a:t>Вопросы: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1. Что такое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2. Как облагораживать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3. Заглянем в св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572000" y="404640"/>
            <a:ext cx="4103640" cy="8636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«Источник богатств, духовных и материальных, есть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Сердц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»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250920" y="1197000"/>
            <a:ext cx="1655640" cy="144000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«Вся жизнь проходит через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39640" y="285264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Где сокровища человека, там и буде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рдц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е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50920" y="3860640"/>
            <a:ext cx="2736720" cy="1440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Добрый человек из доброго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ердц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выносит доброе.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лой человек из 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5938920" y="3718080"/>
            <a:ext cx="3025800" cy="2447640"/>
          </a:xfrm>
          <a:prstGeom prst="rect">
            <a:avLst/>
          </a:prstGeom>
          <a:solidFill>
            <a:srgbClr val="a3f1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ыводы: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Сердце есть Свыше действующий орган.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50920" y="117360"/>
            <a:ext cx="3816360" cy="67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ГИМН О ЛЮБВИ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сли я говорю языками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человеческими и ангельскими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любви не имею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о я – медь звенящая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ли кимвол звучащи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сли имею дар пророчества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знаю все тайны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имею всякое познание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всю веру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к что могу и горы переставлять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не имею любви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о я ничто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если я раздам всё имение моё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отдам тело на сожжение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любви не имею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т мне в этом никакой пользы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Любовь долготерпи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лосердствуе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любовь не завидуе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любовь не превозносится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гордится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4930920" y="1440"/>
            <a:ext cx="4105080" cy="67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бесчинствуе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ищет своего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раздражается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мыслит зла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радуется неправде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сорадуется истине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е покрывае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ему вери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его надеется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е переносит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Любовь никогда не перестаёт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Хотя и пропрочества прекратятся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языки умолкну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знание упразднится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бо мы отчасти знаем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отчасти пророчествуем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огда же наступит совершенное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огда то, что отчасти, прекратится..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теперь пребывают три: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а, Надежда, Любовь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о Любовь из них больше..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ог есть Люб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50920" y="333360"/>
            <a:ext cx="30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ердце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340000" y="2062080"/>
            <a:ext cx="4681440" cy="5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Солнце всех солнц есть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3348000" y="3645000"/>
            <a:ext cx="22320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006600"/>
                </a:solidFill>
                <a:uFillTx/>
                <a:latin typeface="Arial"/>
              </a:rPr>
              <a:t>Вопросы: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1. Что такое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2. Как облагораживать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3. Заглянем в св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4572000" y="404640"/>
            <a:ext cx="4103640" cy="8636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«Источник богатств, духовных и материальных, есть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Сердц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»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50920" y="1197000"/>
            <a:ext cx="1655640" cy="144000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«Вся жизнь проходит через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539640" y="285264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Где сокровища человека, там и буде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рдц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е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250920" y="3860640"/>
            <a:ext cx="2736720" cy="1440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Добрый человек из доброго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ердц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выносит доброе.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лой человек из 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5938920" y="3718080"/>
            <a:ext cx="3025800" cy="2447640"/>
          </a:xfrm>
          <a:prstGeom prst="rect">
            <a:avLst/>
          </a:prstGeom>
          <a:solidFill>
            <a:srgbClr val="a3f1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ыводы: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Сердце есть Свыше действующий орган.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Нужно дать Сердцу постоянную работу.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 rot="10800000">
            <a:off x="1331640" y="333360"/>
            <a:ext cx="6264360" cy="6524640"/>
          </a:xfrm>
          <a:prstGeom prst="verticalScroll">
            <a:avLst>
              <a:gd name="adj" fmla="val 12500"/>
            </a:avLst>
          </a:prstGeom>
          <a:solidFill>
            <a:srgbClr val="a1f4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411280" y="1120680"/>
            <a:ext cx="4248360" cy="4108680"/>
          </a:xfrm>
          <a:custGeom>
            <a:avLst/>
            <a:gdLst>
              <a:gd name="textAreaLeft" fmla="*/ 990720 w 4248360"/>
              <a:gd name="textAreaRight" fmla="*/ 3256560 w 4248360"/>
              <a:gd name="textAreaTop" fmla="*/ 433080 h 4108680"/>
              <a:gd name="textAreaBottom" fmla="*/ 2601720 h 41086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bd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908000" y="404640"/>
            <a:ext cx="504216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СПОДИ!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руй мне Сердце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сто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злобиво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крыто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ерующе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бяще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щедро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стойное вместилищ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бя Всеблагого!</a:t>
            </a:r>
            <a:br>
              <a:rPr sz="2400"/>
            </a:br>
            <a:br>
              <a:rPr sz="2400"/>
            </a:b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СВЯТОЙ ПРАВЕДНИК </a:t>
            </a:r>
            <a:br>
              <a:rPr sz="1600"/>
            </a:b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ИОАНН КРОНШТАД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0920" y="333360"/>
            <a:ext cx="30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ердце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340000" y="2062080"/>
            <a:ext cx="4681440" cy="5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Солнце всех солнц есть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48000" y="3645000"/>
            <a:ext cx="22320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006600"/>
                </a:solidFill>
                <a:uFillTx/>
                <a:latin typeface="Arial"/>
              </a:rPr>
              <a:t>Вопросы: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1. Что такое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2. Как облагораживать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3. Заглянем в св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572000" y="404640"/>
            <a:ext cx="4103640" cy="8636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«Источник богатств, духовных и материальных, есть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Сердц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»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50920" y="1197000"/>
            <a:ext cx="1655640" cy="144000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«Вся жизнь проходит через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539640" y="285264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Где сокровища человека, там и буде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рдц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е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250920" y="3860640"/>
            <a:ext cx="2736720" cy="1440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Добрый человек из доброго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ердц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выносит доброе.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лой человек из 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5938920" y="3718080"/>
            <a:ext cx="3025800" cy="2447640"/>
          </a:xfrm>
          <a:prstGeom prst="rect">
            <a:avLst/>
          </a:prstGeom>
          <a:solidFill>
            <a:srgbClr val="a3f1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ыводы: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Сердце есть Свыше действующий орган.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Нужно дать Сердцу постоянную работу.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3. Пусть будет в Сердце моем чист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826920" y="117360"/>
            <a:ext cx="784872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УДРОСТЬ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то любит цветы, тот на пути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рдц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то знает устремление ввысь, тот на пути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рдц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то чисто мыслит, тот на пути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рдц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то знает о Мирах Высших, тот на пути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рдц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то готов к беспредельности, тот на пути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рд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826920" y="1917720"/>
            <a:ext cx="784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ff"/>
                </a:solidFill>
                <a:uFillTx/>
                <a:latin typeface="Arial"/>
              </a:rPr>
              <a:t>СПАСИБО!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95280" y="693720"/>
            <a:ext cx="860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ужно дать Сердцу постоянную работу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6:18:47Z</dcterms:created>
  <dc:creator>paata</dc:creator>
  <dc:description/>
  <dc:language>en-US</dc:language>
  <cp:lastModifiedBy>Amon</cp:lastModifiedBy>
  <dcterms:modified xsi:type="dcterms:W3CDTF">2010-02-14T07:04:06Z</dcterms:modified>
  <cp:revision>124</cp:revision>
  <dc:subject/>
  <dc:title>Slide 1</dc:title>
</cp:coreProperties>
</file>