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817FB-D0DA-45B6-AA3A-C9B508727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EB990-6342-471E-8C3D-54DDBC3E6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31415-6C0A-470B-AFE9-4A7DFACBE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E36D9-87E9-44F5-894D-DD844A07D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A4F50-0821-43E2-8AB5-A9BBAB9F5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8BB48-F672-4E17-A843-EE7CC4BBE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72B43-CD8B-4156-AA2E-A6CFFE3EA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50FC-506A-4EE4-BC2E-A9C61AAC7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0F51-D69E-4ECD-A1EE-F6E323662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48FC-6E81-4325-87EA-4E3F719B2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0570-5664-46EB-AFA0-9EF661EE1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61F3-3C86-4032-9FED-9C11FFA28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6EA0-825E-4CF8-8401-5A59DF50F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2210-0FB8-49AF-99BD-CE35057A3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14F1-FA07-4601-A0F5-3D2D89A0D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50AF-E261-427D-9E8F-38A6C973C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D37D-6B92-4AB8-9AC6-1B35477B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95B0-C0CA-435C-9E44-B25EA47F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6A68-E8C2-4C8A-80D2-01345AE6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2A0C4-CE9C-4894-9ACD-2D7303E06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День третий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День третий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0" y="2438280"/>
            <a:ext cx="9144000" cy="198144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«Он уже живет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images.jpeg"/>
          <p:cNvPicPr/>
          <p:nvPr/>
        </p:nvPicPr>
        <p:blipFill>
          <a:blip r:embed="rId1"/>
          <a:stretch/>
        </p:blipFill>
        <p:spPr>
          <a:xfrm>
            <a:off x="7238880" y="457200"/>
            <a:ext cx="1524240" cy="2190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200px-Janusz_Korczak.PNG"/>
          <p:cNvPicPr/>
          <p:nvPr/>
        </p:nvPicPr>
        <p:blipFill>
          <a:blip r:embed="rId2"/>
          <a:stretch/>
        </p:blipFill>
        <p:spPr>
          <a:xfrm>
            <a:off x="6172200" y="4191120"/>
            <a:ext cx="1536840" cy="2441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m_26753.jpg"/>
          <p:cNvPicPr/>
          <p:nvPr/>
        </p:nvPicPr>
        <p:blipFill>
          <a:blip r:embed="rId3"/>
          <a:stretch/>
        </p:blipFill>
        <p:spPr>
          <a:xfrm>
            <a:off x="380880" y="380880"/>
            <a:ext cx="1878120" cy="2306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Johann_Heinrich_Pestalozzi.jpg"/>
          <p:cNvPicPr/>
          <p:nvPr/>
        </p:nvPicPr>
        <p:blipFill>
          <a:blip r:embed="rId4"/>
          <a:stretch/>
        </p:blipFill>
        <p:spPr>
          <a:xfrm>
            <a:off x="1295280" y="4210200"/>
            <a:ext cx="1752840" cy="23428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457200" y="11592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просы для размышлени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457200" y="907920"/>
            <a:ext cx="8229600" cy="56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Согласны ли Вы с утверждением: «Воспитание происходит только в условиях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духовной общн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? А как Ваша практи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Согласны ли Вы с утверждением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Ребенок не готовится к жизни,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он уже живе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? А как Ваша практи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Нужно ли говорить детям о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смысле жизн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 ли Вы детей смыслу жизни? Что есть для Вас смысл жизн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Будут ли Ваши ученики учиться успешнее,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если прекратить ставить им отметк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57200" y="11592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ысли для анализ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0" y="765000"/>
            <a:ext cx="9144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Жизнь – это шанс, не упусти 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знь – это красота, удивляйся 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знь – это мечта, осуществи 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знь – это долг, исполни 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знь – это игра, так игра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знь – это любовь, так люб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знь – это тайна, разгадай 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знь – это трагедия, выдержи 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знь – это приключение, решись на н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знь – это жизнь, спаси е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знь – это счастье, сотвори его с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ть сто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уничтожай свою жизнь!»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Мать Терез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Isosceles Triangle 3"/>
          <p:cNvSpPr/>
          <p:nvPr/>
        </p:nvSpPr>
        <p:spPr>
          <a:xfrm rot="10800000">
            <a:off x="2438280" y="2590920"/>
            <a:ext cx="4114800" cy="3504960"/>
          </a:xfrm>
          <a:prstGeom prst="triangle">
            <a:avLst>
              <a:gd name="adj" fmla="val 50000"/>
            </a:avLst>
          </a:prstGeom>
          <a:solidFill>
            <a:srgbClr val="ff0000">
              <a:alpha val="40000"/>
            </a:srgbClr>
          </a:solidFill>
          <a:ln w="9360">
            <a:solidFill>
              <a:srgbClr val="b6dcdf"/>
            </a:solidFill>
            <a:miter/>
          </a:ln>
          <a:effectLst>
            <a:outerShdw dist="5076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Isosceles Triangle 7"/>
          <p:cNvSpPr/>
          <p:nvPr/>
        </p:nvSpPr>
        <p:spPr>
          <a:xfrm>
            <a:off x="2438280" y="1447920"/>
            <a:ext cx="4114800" cy="3504960"/>
          </a:xfrm>
          <a:prstGeom prst="triangle">
            <a:avLst>
              <a:gd name="adj" fmla="val 50000"/>
            </a:avLst>
          </a:prstGeom>
          <a:solidFill>
            <a:srgbClr val="0000ff">
              <a:alpha val="40000"/>
            </a:srgbClr>
          </a:solidFill>
          <a:ln w="9360">
            <a:solidFill>
              <a:srgbClr val="b6dcdf"/>
            </a:solidFill>
            <a:miter/>
          </a:ln>
          <a:effectLst>
            <a:outerShdw dist="5076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12"/>
          <p:cNvGrpSpPr/>
          <p:nvPr/>
        </p:nvGrpSpPr>
        <p:grpSpPr>
          <a:xfrm>
            <a:off x="3276720" y="2654280"/>
            <a:ext cx="2355840" cy="2298600"/>
            <a:chOff x="3276720" y="2654280"/>
            <a:chExt cx="2355840" cy="2298600"/>
          </a:xfrm>
        </p:grpSpPr>
        <p:sp>
          <p:nvSpPr>
            <p:cNvPr id="65" name="Oval 8"/>
            <p:cNvSpPr/>
            <p:nvPr/>
          </p:nvSpPr>
          <p:spPr>
            <a:xfrm>
              <a:off x="3276720" y="2654280"/>
              <a:ext cx="2355840" cy="229860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9"/>
            <p:cNvSpPr/>
            <p:nvPr/>
          </p:nvSpPr>
          <p:spPr>
            <a:xfrm>
              <a:off x="4295880" y="2914560"/>
              <a:ext cx="317520" cy="3189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10"/>
            <p:cNvSpPr/>
            <p:nvPr/>
          </p:nvSpPr>
          <p:spPr>
            <a:xfrm>
              <a:off x="3722760" y="4060800"/>
              <a:ext cx="317520" cy="3189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11"/>
            <p:cNvSpPr/>
            <p:nvPr/>
          </p:nvSpPr>
          <p:spPr>
            <a:xfrm>
              <a:off x="4932720" y="4060800"/>
              <a:ext cx="317520" cy="3189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89" descr="Opyat_dvoyka.jpg"/>
          <p:cNvPicPr/>
          <p:nvPr/>
        </p:nvPicPr>
        <p:blipFill>
          <a:blip r:embed="rId1"/>
          <a:stretch/>
        </p:blipFill>
        <p:spPr>
          <a:xfrm>
            <a:off x="1508040" y="0"/>
            <a:ext cx="612792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Урок в сельской школе.jpeg"/>
          <p:cNvPicPr/>
          <p:nvPr/>
        </p:nvPicPr>
        <p:blipFill>
          <a:blip r:embed="rId1"/>
          <a:stretch/>
        </p:blipFill>
        <p:spPr>
          <a:xfrm>
            <a:off x="1908000" y="0"/>
            <a:ext cx="453564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6T10:56:26Z</dcterms:created>
  <dc:creator>paata</dc:creator>
  <dc:description/>
  <dc:language>en-US</dc:language>
  <cp:lastModifiedBy>Paata Amonashvili</cp:lastModifiedBy>
  <dcterms:modified xsi:type="dcterms:W3CDTF">2014-01-20T16:35:10Z</dcterms:modified>
  <cp:revision>122</cp:revision>
  <dc:subject/>
  <dc:title>Slide 1</dc:title>
</cp:coreProperties>
</file>