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349B-BC81-435D-A2A8-81577006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04D7-A08D-4925-9044-FFBF28F53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F54F-9BCB-42BD-B623-2C697DC9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0022-36D4-47D2-84DE-80031636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CF08-A3B0-42C0-B75F-4C251D351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2309-FE95-4CD2-B054-BEE4526A6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F613-41BD-4B14-AB39-8400A219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BF92-0169-41B8-ADFD-A6DEC84C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4032-DB32-4204-8F1D-13B66D8D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8A80-185D-45D6-8970-055462786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E9EE-9627-4574-8968-B751B075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E190-823A-42CC-A321-1B02B7A04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F562-3769-4419-BA14-D68B88D7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1340-29F0-4560-8AD4-47B3AD8A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2E09-5221-4F8F-A4EB-D9DF1F54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A401-6B76-4FC4-AFE3-2DCFA553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6778-CAFD-4C2D-A39C-96CE7D6FB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881A-7DF4-46ED-87A0-A9D13CA8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AA36-150A-48C8-BD15-CC1BC5FB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2D46-4B4A-4C99-9200-182B29A42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29F9-860F-4982-93AC-A9EB2E3B8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91C7-44C7-4316-BE7D-97F5807A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03F1-1A7F-4AA6-9DBF-039D7C636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0AD0-5B2A-4B89-BCD1-B32EA217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627F-A61C-4237-8F4E-CFABEE7F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F402-E150-4A6B-BC11-341E5B789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4ECF-3F98-4D6D-88A4-70839F39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564-AEA5-404E-A9B2-B7AF5280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4B2-9DF9-43E4-8DB6-0E86A9FC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2B5-5FE7-4AFB-94B6-4B8409BF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002-6DBA-42FE-935B-C70F1ADF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2D6-5700-4380-9F0D-AA63692D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966-BE88-405F-8666-9F64D10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5A5-43CB-4564-AD0D-822F906E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8E8-64A2-4E26-B1C0-32F29562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E43-A92F-437A-8D29-109F33F3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BC5-9ACC-4815-87B7-20DD1526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51A-53DD-4B37-998B-4FEA36EB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AEB-8501-497F-B5F3-A6970599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8C0C-6CBF-4B26-806F-EF480E24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ерв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.jpeg"/>
          <p:cNvPicPr/>
          <p:nvPr/>
        </p:nvPicPr>
        <p:blipFill>
          <a:blip r:embed="rId1"/>
          <a:stretch/>
        </p:blipFill>
        <p:spPr>
          <a:xfrm>
            <a:off x="6178680" y="2629080"/>
            <a:ext cx="2127240" cy="377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kvintilian.gif"/>
          <p:cNvPicPr/>
          <p:nvPr/>
        </p:nvPicPr>
        <p:blipFill>
          <a:blip r:embed="rId2"/>
          <a:stretch/>
        </p:blipFill>
        <p:spPr>
          <a:xfrm>
            <a:off x="457200" y="2666880"/>
            <a:ext cx="4191120" cy="358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876920" y="51055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емная жизнь – отрезок пути совершен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876920" y="51055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емная жизнь – отрезок пути совершен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2895480" y="2354400"/>
            <a:ext cx="2819520" cy="27511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 rot="3564000">
            <a:off x="3853440" y="374040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 rot="3564000">
            <a:off x="3853440" y="374040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14600" y="571500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Энерги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 rot="18030000">
            <a:off x="3764520" y="393084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Взро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 rot="18030000">
            <a:off x="3764520" y="393084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Взро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514600" y="1752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Своб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ущность ребенка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sosceles Triangle 3"/>
          <p:cNvSpPr/>
          <p:nvPr/>
        </p:nvSpPr>
        <p:spPr>
          <a:xfrm rot="10800000">
            <a:off x="2438280" y="2590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sosceles Triangle 7"/>
          <p:cNvSpPr/>
          <p:nvPr/>
        </p:nvSpPr>
        <p:spPr>
          <a:xfrm>
            <a:off x="2438280" y="1447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0000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3276720" y="2654280"/>
            <a:ext cx="2355840" cy="2298600"/>
            <a:chOff x="3276720" y="2654280"/>
            <a:chExt cx="2355840" cy="2298600"/>
          </a:xfrm>
        </p:grpSpPr>
        <p:sp>
          <p:nvSpPr>
            <p:cNvPr id="153" name="Oval 8"/>
            <p:cNvSpPr/>
            <p:nvPr/>
          </p:nvSpPr>
          <p:spPr>
            <a:xfrm>
              <a:off x="3276720" y="2654280"/>
              <a:ext cx="2355840" cy="22986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4295880" y="291456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0"/>
            <p:cNvSpPr/>
            <p:nvPr/>
          </p:nvSpPr>
          <p:spPr>
            <a:xfrm>
              <a:off x="372276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493272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5"/>
          <p:cNvSpPr/>
          <p:nvPr/>
        </p:nvSpPr>
        <p:spPr>
          <a:xfrm>
            <a:off x="533520" y="2666880"/>
            <a:ext cx="8229600" cy="12956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7200" y="266688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тодическая служба: Управление, 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ерв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Arial"/>
              </a:rPr>
              <a:t>Наша душа небесного происхож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i.jpeg"/>
          <p:cNvPicPr/>
          <p:nvPr/>
        </p:nvPicPr>
        <p:blipFill>
          <a:blip r:embed="rId1"/>
          <a:stretch/>
        </p:blipFill>
        <p:spPr>
          <a:xfrm>
            <a:off x="7556400" y="3886200"/>
            <a:ext cx="1435320" cy="254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-457200" y="922032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-1135080" y="944892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tagon 15"/>
          <p:cNvSpPr/>
          <p:nvPr/>
        </p:nvSpPr>
        <p:spPr>
          <a:xfrm>
            <a:off x="533520" y="2666880"/>
            <a:ext cx="8229600" cy="12956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57200" y="266688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тодическая служба: Управление, 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loud 11"/>
          <p:cNvSpPr/>
          <p:nvPr/>
        </p:nvSpPr>
        <p:spPr>
          <a:xfrm>
            <a:off x="5335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loud 12"/>
          <p:cNvSpPr/>
          <p:nvPr/>
        </p:nvSpPr>
        <p:spPr>
          <a:xfrm>
            <a:off x="19051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 19"/>
          <p:cNvSpPr/>
          <p:nvPr/>
        </p:nvSpPr>
        <p:spPr>
          <a:xfrm>
            <a:off x="32767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loud 20"/>
          <p:cNvSpPr/>
          <p:nvPr/>
        </p:nvSpPr>
        <p:spPr>
          <a:xfrm>
            <a:off x="45720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loud 21"/>
          <p:cNvSpPr/>
          <p:nvPr/>
        </p:nvSpPr>
        <p:spPr>
          <a:xfrm>
            <a:off x="59436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n Arrow 22"/>
          <p:cNvSpPr/>
          <p:nvPr/>
        </p:nvSpPr>
        <p:spPr>
          <a:xfrm>
            <a:off x="13716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n Arrow 23"/>
          <p:cNvSpPr/>
          <p:nvPr/>
        </p:nvSpPr>
        <p:spPr>
          <a:xfrm>
            <a:off x="22096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n Arrow 24"/>
          <p:cNvSpPr/>
          <p:nvPr/>
        </p:nvSpPr>
        <p:spPr>
          <a:xfrm>
            <a:off x="31240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own Arrow 25"/>
          <p:cNvSpPr/>
          <p:nvPr/>
        </p:nvSpPr>
        <p:spPr>
          <a:xfrm>
            <a:off x="396252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own Arrow 26"/>
          <p:cNvSpPr/>
          <p:nvPr/>
        </p:nvSpPr>
        <p:spPr>
          <a:xfrm>
            <a:off x="48006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wn Arrow 27"/>
          <p:cNvSpPr/>
          <p:nvPr/>
        </p:nvSpPr>
        <p:spPr>
          <a:xfrm>
            <a:off x="57150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28"/>
          <p:cNvSpPr/>
          <p:nvPr/>
        </p:nvSpPr>
        <p:spPr>
          <a:xfrm>
            <a:off x="647712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own Arrow 29"/>
          <p:cNvSpPr/>
          <p:nvPr/>
        </p:nvSpPr>
        <p:spPr>
          <a:xfrm>
            <a:off x="73152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30"/>
          <p:cNvSpPr/>
          <p:nvPr/>
        </p:nvSpPr>
        <p:spPr>
          <a:xfrm>
            <a:off x="6094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loud 31"/>
          <p:cNvSpPr/>
          <p:nvPr/>
        </p:nvSpPr>
        <p:spPr>
          <a:xfrm>
            <a:off x="73152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ight Arrow 8"/>
          <p:cNvSpPr/>
          <p:nvPr/>
        </p:nvSpPr>
        <p:spPr>
          <a:xfrm rot="3893400">
            <a:off x="69012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Arrow 9"/>
          <p:cNvSpPr/>
          <p:nvPr/>
        </p:nvSpPr>
        <p:spPr>
          <a:xfrm rot="17598000">
            <a:off x="69048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12"/>
          <p:cNvSpPr/>
          <p:nvPr/>
        </p:nvSpPr>
        <p:spPr>
          <a:xfrm rot="3893400">
            <a:off x="280764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19"/>
          <p:cNvSpPr/>
          <p:nvPr/>
        </p:nvSpPr>
        <p:spPr>
          <a:xfrm rot="17598000">
            <a:off x="280800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ight Arrow 20"/>
          <p:cNvSpPr/>
          <p:nvPr/>
        </p:nvSpPr>
        <p:spPr>
          <a:xfrm rot="3893400">
            <a:off x="486504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ight Arrow 21"/>
          <p:cNvSpPr/>
          <p:nvPr/>
        </p:nvSpPr>
        <p:spPr>
          <a:xfrm rot="17598000">
            <a:off x="486540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Школа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25909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61645"/>
                </a:solidFill>
                <a:latin typeface="Arial"/>
              </a:rPr>
              <a:t>Лат. </a:t>
            </a:r>
            <a:r>
              <a:rPr b="0" lang="en-US" sz="6000" spc="-1" strike="noStrike">
                <a:solidFill>
                  <a:srgbClr val="161645"/>
                </a:solidFill>
                <a:latin typeface="Arial"/>
              </a:rPr>
              <a:t>SK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495288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Лестница духовного восхож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hevron 4"/>
          <p:cNvSpPr/>
          <p:nvPr/>
        </p:nvSpPr>
        <p:spPr>
          <a:xfrm rot="5400000">
            <a:off x="4038480" y="1981080"/>
            <a:ext cx="1067040" cy="6098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lnTo>
                  <a:pt x="6171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qual 5"/>
          <p:cNvSpPr/>
          <p:nvPr/>
        </p:nvSpPr>
        <p:spPr>
          <a:xfrm>
            <a:off x="4038480" y="3962520"/>
            <a:ext cx="990720" cy="761760"/>
          </a:xfrm>
          <a:prstGeom prst="pi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990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ИТ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3124080"/>
            <a:ext cx="9144000" cy="18288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итель,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к,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е, об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е, и т.д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 = Ура = Аура, Огонь, Свет, Логос, Жизнь, Мудрость, Бо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2133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 = Чело = Душа, Созн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уша, носитель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2133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-ОС-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итание Духовной О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ро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276720" y="2590920"/>
            <a:ext cx="25146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61645"/>
                </a:solidFill>
                <a:latin typeface="Arial"/>
              </a:rPr>
              <a:t>У+Р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51055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рок = основа жизни, модель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hevron 4"/>
          <p:cNvSpPr/>
          <p:nvPr/>
        </p:nvSpPr>
        <p:spPr>
          <a:xfrm rot="5400000">
            <a:off x="4038480" y="1981080"/>
            <a:ext cx="1067040" cy="6098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lnTo>
                  <a:pt x="6171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qual 5"/>
          <p:cNvSpPr/>
          <p:nvPr/>
        </p:nvSpPr>
        <p:spPr>
          <a:xfrm>
            <a:off x="4038480" y="3962520"/>
            <a:ext cx="990720" cy="761760"/>
          </a:xfrm>
          <a:prstGeom prst="pi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5486400" y="3733920"/>
            <a:ext cx="3657600" cy="9144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45"/>
                </a:solidFill>
                <a:latin typeface="Arial"/>
              </a:rPr>
              <a:t>У=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45"/>
                </a:solidFill>
                <a:latin typeface="Arial"/>
              </a:rPr>
              <a:t>Рок=удар судь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ума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23623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= смертны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4267080"/>
            <a:ext cx="9144000" cy="23623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УМАННЫЙ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мертный человек, ищущий в себе бессмертие, связь с высшим; человек, познающий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0040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09588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hevron 8"/>
          <p:cNvSpPr/>
          <p:nvPr/>
        </p:nvSpPr>
        <p:spPr>
          <a:xfrm>
            <a:off x="2743200" y="152280"/>
            <a:ext cx="990720" cy="53352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hevron 9"/>
          <p:cNvSpPr/>
          <p:nvPr/>
        </p:nvSpPr>
        <p:spPr>
          <a:xfrm>
            <a:off x="5486400" y="152280"/>
            <a:ext cx="990720" cy="53352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590920" y="1295280"/>
            <a:ext cx="129528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4419720" y="1295280"/>
            <a:ext cx="281916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=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hevron 12"/>
          <p:cNvSpPr/>
          <p:nvPr/>
        </p:nvSpPr>
        <p:spPr>
          <a:xfrm>
            <a:off x="3886200" y="1447920"/>
            <a:ext cx="990720" cy="53316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«Будьте же исполнители слова, а не слушатели только, обманывающие самих себя»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(Иак. 1,22)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Есть у Вас какое-либ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лософ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ение о Ребенке? Нуждаетесь ли Вы в такой филосо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ой Вы есть Учитель (родитель, воспитатель, профессор, руководитель, начальник…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торитарный, властный, требовательный, строгий, справедливый, гуманный, демократичный, добрый, радостный, грубый, хмурый, с юмором, без юмор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ествуют три типа учителей: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бъясня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жалу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дохновля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 какому типу учителей Вы себя причисля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ачитанный ли Вы Учитель 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фере педагогической класс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философии? психологии? метод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тремитесь ли Вы 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в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ыту, 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дагогическим иде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еред кем Вы чувствует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тветстве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вой педагогический тру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 Матфея Святое Благов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8.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то время ученики приступили к Иисусу и сказали: кто больше в Царстве Небесн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исус, призвав дитя, поставил его перед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казал: Истинно говорю вам, если не обратитесь и не будете как дети, не войдете в Царство Небес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так, кто умалится, как это дитя, тот и больше в Царстве Небес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кто примет одного такого дитя во имя Мое, тот и Меня принима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кто соблазнит одного из малых сих, верующих в Меня, тому лучше было бы, если бы повесили ему мельничный жернов на шею и потопили бы во глубине морск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мотрите, не презирайте ни одного из малых сих, ибо Говорю вам, ангелы их на небесах всегда видят лице Отца Моего Небесног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так, нет воли Отца вашего Небесного, чтобы погиб один из малых с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solidFill>
            <a:srgbClr val="fff53b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iped Right Arrow 5"/>
          <p:cNvSpPr/>
          <p:nvPr/>
        </p:nvSpPr>
        <p:spPr>
          <a:xfrm rot="19546800">
            <a:off x="2634840" y="1282320"/>
            <a:ext cx="2001960" cy="23184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745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43400" y="30492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веры – Религиозн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43400" y="160020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0"/>
                </a:solidFill>
                <a:latin typeface="Arial"/>
              </a:rPr>
              <a:t>Родительское чувство – Педагог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43400" y="297180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познания – Научно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илософ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1120" y="434340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0"/>
                </a:solidFill>
                <a:latin typeface="Arial"/>
              </a:rPr>
              <a:t>Чувство красоты – Эсте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14800" y="5638680"/>
            <a:ext cx="4648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совести – Э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iped Right Arrow 12"/>
          <p:cNvSpPr/>
          <p:nvPr/>
        </p:nvSpPr>
        <p:spPr>
          <a:xfrm rot="20397000">
            <a:off x="3181320" y="2378160"/>
            <a:ext cx="1154160" cy="25092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6606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iped Right Arrow 14"/>
          <p:cNvSpPr/>
          <p:nvPr/>
        </p:nvSpPr>
        <p:spPr>
          <a:xfrm>
            <a:off x="3276720" y="3273480"/>
            <a:ext cx="1676160" cy="23184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iped Right Arrow 16"/>
          <p:cNvSpPr/>
          <p:nvPr/>
        </p:nvSpPr>
        <p:spPr>
          <a:xfrm rot="770400">
            <a:off x="3212640" y="4195440"/>
            <a:ext cx="1154160" cy="25092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463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iped Right Arrow 17"/>
          <p:cNvSpPr/>
          <p:nvPr/>
        </p:nvSpPr>
        <p:spPr>
          <a:xfrm rot="2347800">
            <a:off x="2720520" y="5334120"/>
            <a:ext cx="2001960" cy="23148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3054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9"/>
          <p:cNvGrpSpPr/>
          <p:nvPr/>
        </p:nvGrpSpPr>
        <p:grpSpPr>
          <a:xfrm>
            <a:off x="297000" y="762120"/>
            <a:ext cx="4351320" cy="2743200"/>
            <a:chOff x="297000" y="762120"/>
            <a:chExt cx="4351320" cy="2743200"/>
          </a:xfrm>
        </p:grpSpPr>
        <p:sp>
          <p:nvSpPr>
            <p:cNvPr id="76" name="Straight Connector 92"/>
            <p:cNvSpPr/>
            <p:nvPr/>
          </p:nvSpPr>
          <p:spPr>
            <a:xfrm flipV="1">
              <a:off x="639720" y="1214280"/>
              <a:ext cx="4008600" cy="22910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94"/>
            <p:cNvSpPr/>
            <p:nvPr/>
          </p:nvSpPr>
          <p:spPr>
            <a:xfrm>
              <a:off x="2930760" y="270360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297000" y="270864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5"/>
            <p:cNvSpPr/>
            <p:nvPr/>
          </p:nvSpPr>
          <p:spPr>
            <a:xfrm>
              <a:off x="3846960" y="76212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5"/>
            <p:cNvSpPr/>
            <p:nvPr/>
          </p:nvSpPr>
          <p:spPr>
            <a:xfrm>
              <a:off x="2930760" y="2937600"/>
              <a:ext cx="594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2" descr="PseudoSphere.jpg"/>
          <p:cNvPicPr/>
          <p:nvPr/>
        </p:nvPicPr>
        <p:blipFill>
          <a:blip r:embed="rId1"/>
          <a:stretch/>
        </p:blipFill>
        <p:spPr>
          <a:xfrm>
            <a:off x="5410080" y="1511280"/>
            <a:ext cx="251460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7899480" y="152388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6172200" y="99072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севдосфера Лобач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8001000" y="3657600"/>
            <a:ext cx="1143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Николай Иванович Лобачевск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1792-18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7"/>
          <p:cNvGrpSpPr/>
          <p:nvPr/>
        </p:nvGrpSpPr>
        <p:grpSpPr>
          <a:xfrm>
            <a:off x="297000" y="762120"/>
            <a:ext cx="4351320" cy="2743200"/>
            <a:chOff x="297000" y="762120"/>
            <a:chExt cx="4351320" cy="2743200"/>
          </a:xfrm>
        </p:grpSpPr>
        <p:sp>
          <p:nvSpPr>
            <p:cNvPr id="88" name="Straight Connector 28"/>
            <p:cNvSpPr/>
            <p:nvPr/>
          </p:nvSpPr>
          <p:spPr>
            <a:xfrm flipV="1">
              <a:off x="639720" y="1214280"/>
              <a:ext cx="4008600" cy="22910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9"/>
            <p:cNvSpPr/>
            <p:nvPr/>
          </p:nvSpPr>
          <p:spPr>
            <a:xfrm>
              <a:off x="2930760" y="270360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5"/>
            <p:cNvSpPr/>
            <p:nvPr/>
          </p:nvSpPr>
          <p:spPr>
            <a:xfrm>
              <a:off x="297000" y="270864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3846960" y="76212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5"/>
            <p:cNvSpPr/>
            <p:nvPr/>
          </p:nvSpPr>
          <p:spPr>
            <a:xfrm>
              <a:off x="2930760" y="2937600"/>
              <a:ext cx="594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2:56:25Z</dcterms:created>
  <dc:creator>paata</dc:creator>
  <dc:description/>
  <dc:language>en-US</dc:language>
  <cp:lastModifiedBy>Shalva Amaonashvili</cp:lastModifiedBy>
  <dcterms:modified xsi:type="dcterms:W3CDTF">2009-02-18T18:02:45Z</dcterms:modified>
  <cp:revision>111</cp:revision>
  <dc:subject/>
  <dc:title>Slide 1</dc:title>
</cp:coreProperties>
</file>